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1D7-52B4-44B1-81EE-5378B310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6BE-A6D2-4870-B063-5FEF139A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08F-83E1-4648-A2C3-8905E25A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7A8-C172-4B9D-8E79-2839C0EB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22A7-C14E-4D16-BC39-FE803901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9762-4AF0-46C1-9AD5-2B51749C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3BAE-BA71-49F1-8454-4D9D2AEB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B720-0AFD-4235-A11D-9FCF0984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41A6-CFD1-4733-99A3-DB8E3948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1A74-AA4A-448C-BD0B-5A603520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A8D2-6C28-4E79-A015-4250BE37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ED2-82B8-4101-87F3-F73B430E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61B4-D919-4A66-95F9-7F0C5D1F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EA6C-BF6C-4083-91D1-7F27E1E0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FD59-FABE-4BA6-BEBE-B0FC9077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9815-6880-4FD0-9277-A3D1E52A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CFBD-0BE1-46DD-920E-432DBEC4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3F9-034E-4907-80CB-335957DE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2DB-DB7A-43D2-9888-9A637268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194B-6754-4EFF-B793-8E1C7B02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B33-0253-4FA1-9B8F-4086E920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28F-97CE-40D3-8C82-5F1269D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6B4-7EB3-496D-B052-FB16C6C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1E2-B257-43CB-A493-6D926AA7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66AC-187D-4C25-A621-6B80FCE48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938C-F4BF-4705-8379-596A624FE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ochemie sval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íčně pruhované svalst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ladké svalst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rdeční s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gulace stahu hladkého sval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yosin hladkého sval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ižší ATPasová aktivita oproti myosinu příčně pruhovaného sval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 aktinem interaguje pouze pokud je fosforylov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Kinasa lehkých řetězců myosinu</a:t>
            </a:r>
            <a:r>
              <a:rPr b="0" lang="cs-CZ" sz="3200" spc="-1" strike="noStrike">
                <a:solidFill>
                  <a:srgbClr val="ccffff"/>
                </a:solidFill>
                <a:latin typeface="Tahoma"/>
              </a:rPr>
              <a:t> je aktivní </a:t>
            </a:r>
            <a:br>
              <a:rPr sz="3200"/>
            </a:br>
            <a:r>
              <a:rPr b="0" lang="cs-CZ" sz="3200" spc="-1" strike="noStrike">
                <a:solidFill>
                  <a:srgbClr val="ccffff"/>
                </a:solidFill>
                <a:latin typeface="Tahoma"/>
              </a:rPr>
              <a:t>pouze v přítomnosti </a:t>
            </a:r>
            <a:r>
              <a:rPr b="1" lang="cs-CZ" sz="3200" spc="-1" strike="noStrike">
                <a:solidFill>
                  <a:srgbClr val="ff3300"/>
                </a:solidFill>
                <a:latin typeface="Tahoma"/>
              </a:rPr>
              <a:t>Ca-kalmodulin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gulace stahu hladkého sval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regulace_hl_sv" descr=""/>
          <p:cNvPicPr/>
          <p:nvPr/>
        </p:nvPicPr>
        <p:blipFill>
          <a:blip r:embed="rId2"/>
          <a:stretch/>
        </p:blipFill>
        <p:spPr>
          <a:xfrm>
            <a:off x="152280" y="1793880"/>
            <a:ext cx="8753760" cy="5064120"/>
          </a:xfrm>
          <a:prstGeom prst="rect">
            <a:avLst/>
          </a:prstGeom>
          <a:ln w="0">
            <a:noFill/>
          </a:ln>
        </p:spPr>
      </p:pic>
      <p:pic>
        <p:nvPicPr>
          <p:cNvPr id="110" name="adrenalin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8686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Enzymy a bílkoviny kosterního svalu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67652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3300"/>
                </a:solidFill>
                <a:uFillTx/>
                <a:latin typeface="Tahoma"/>
              </a:rPr>
              <a:t>Kreatinkinas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(CK) -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86 000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3 isoenzymy</a:t>
            </a:r>
            <a:r>
              <a:rPr b="0" lang="cs-CZ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ff3300"/>
                </a:solidFill>
                <a:latin typeface="Tahoma"/>
              </a:rPr>
              <a:t>MM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, MB (3.5 %),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BB (</a:t>
            </a:r>
            <a:r>
              <a:rPr b="0" i="1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 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0481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3300"/>
                </a:solidFill>
                <a:uFillTx/>
                <a:latin typeface="Tahoma"/>
              </a:rPr>
              <a:t>Aldolas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60 000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3 Isoenzymy </a:t>
            </a:r>
            <a:r>
              <a:rPr b="1" lang="cs-CZ" sz="28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(sval), B (játra), C (moze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49568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3300"/>
                </a:solidFill>
                <a:uFillTx/>
                <a:latin typeface="Tahoma"/>
              </a:rPr>
              <a:t>Aspartátaminotransferas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(AST) -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20 000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ytoplasma a mitochond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(významné aktivity rovněž v srdci a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átre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Enzymy a bílkoviny kosterního svalu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3300"/>
                </a:solidFill>
                <a:uFillTx/>
                <a:latin typeface="Tahoma"/>
              </a:rPr>
              <a:t>Laktátdehydrogenas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– 135 00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5 isoenzymů, ve všech tkáních, různé zastoupení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D1 (H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) – srd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24-34%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D2 (H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)–srdce, Er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35-45%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D3 (H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)– svalstvo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15-25%</a:t>
            </a:r>
            <a:br>
              <a:rPr sz="2800"/>
            </a:br>
            <a:r>
              <a:rPr b="1" lang="cs-CZ" sz="2800" spc="-1" strike="noStrike">
                <a:solidFill>
                  <a:srgbClr val="ff3300"/>
                </a:solidFill>
                <a:latin typeface="Tahoma"/>
              </a:rPr>
              <a:t>LD4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(HM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) – kosterní svalstvo, játra     4-10%</a:t>
            </a:r>
            <a:br>
              <a:rPr sz="2800"/>
            </a:br>
            <a:r>
              <a:rPr b="1" lang="cs-CZ" sz="2800" spc="-1" strike="noStrike">
                <a:solidFill>
                  <a:srgbClr val="ff3300"/>
                </a:solidFill>
                <a:latin typeface="Tahoma"/>
              </a:rPr>
              <a:t>LD5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(M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) – kosterní svalstvo, játr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1-9%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Enzymy a bílkoviny kosterního svalu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Myoglobin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– 18 00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devčím v červených svalových vlákn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200400"/>
            <a:ext cx="8077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3300"/>
                </a:solidFill>
                <a:latin typeface="Tahoma"/>
              </a:rPr>
              <a:t>Tropon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3 podjednotky, TnT, TnI, Tn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TnT, TnI – specifické pro jednotlivé tkáně – stanovují se  především isoformy srdečního svalu (při infarktu myokard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ergetika svalového stahu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  - tvorba AT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Substrátová fosforylac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hl. bílé sval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Fosfoenolpyruvát, 1,3-difosfoglycerá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Oxidační fosforylac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hl. červené sval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Adenylátkinas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myokinas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MP + ATP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2 AD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Regenerace z kreatinfosfá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reatin + ATP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kreatin-P + ADP   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cs-CZ" sz="2000" spc="-1" strike="noStrike" baseline="30000">
                <a:solidFill>
                  <a:srgbClr val="ffffff"/>
                </a:solidFill>
                <a:latin typeface="Tahoma"/>
              </a:rPr>
              <a:t>°´=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12.6 kJ/m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volněný sval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TP 4mM, ADP 0.013 mM,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reatin 13 mM, kreatin-P 25 m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valová onemocněn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Tahoma"/>
              </a:rPr>
              <a:t>Neurogenní onemocně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ccffff"/>
                </a:solidFill>
                <a:uFillTx/>
                <a:latin typeface="Tahoma"/>
              </a:rPr>
              <a:t>neurogenní svalové atrofi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alová slabost je způsobena jeho sníženou inervací či ztrátou nervových vývodů v důsledků některých nervových degenerativních změ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ccffff"/>
                </a:solidFill>
                <a:uFillTx/>
                <a:latin typeface="Tahoma"/>
              </a:rPr>
              <a:t>akutní polyneuropati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Guillain-Barré syndrom) - parainfekční a postinfekční onemocnění způsobené imulogickým napadením periferních nerv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ccffff"/>
                </a:solidFill>
                <a:uFillTx/>
                <a:latin typeface="Tahoma"/>
              </a:rPr>
              <a:t>metabolické neuropati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s metabol. onemocněními - diabetes mellitus, nesprávná výž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6765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motorická (pohybová) dysfunkce v důsledku poškození některé části dráhy nervový signál -svalová kontrak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valová onemocněn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Tahoma"/>
              </a:rPr>
              <a:t>Onemocnění v důsledku poškození svalových vláken (myopa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zánět, endokrinní či metabolické abnormal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asto spojeny s dědičnými choroba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cffff"/>
                </a:solidFill>
                <a:latin typeface="Tahoma"/>
              </a:rPr>
              <a:t>svalová dystrofie - obecný název pro progresivní svalovou slabost spojenou s degenerací svalu, bez průkazu nervového přiči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ccffff"/>
                </a:solidFill>
                <a:uFillTx/>
                <a:latin typeface="Tahoma"/>
              </a:rPr>
              <a:t>pseudohypertrofní svalová dystrofi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Duchenne) - gonosomálně recesivní onemocnění. postihuje chlapce ve věku 3-7 let, nejdříve pánevní pletenec, následně ramenní; mnoho pacientů ve věku 10-12 let končí na kolečkovém křesle. V séru jsou zvýšeny enzymy dlouho před prvními symptomy choroby (hl. C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Svalová onemocněn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ccffff"/>
                </a:solidFill>
                <a:uFillTx/>
                <a:latin typeface="Tahoma"/>
              </a:rPr>
              <a:t>glykogenos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poruchy v ukládání glykogenu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abnormální ukládání glykogenu ve svalu. Dědičné je autosomálně recesivní onemocněn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McArdl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chybí myofosforylasa b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svalová slabost,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řeče, při cvičení se v plasmě nezvyšuje laktát,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dochází k poklesu pH při cvičení. Klinicky j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nemocnění mírn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Tauri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sval. bolest, stejné projevy jako výše. chybí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fosfofruktokinasa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hromadění prekurzorů v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káních glc-6-P, fru-6-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bě onemocnění jsou zpravidla doprovázena myoglobinuri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valová onemocněn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3300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3300"/>
                </a:solidFill>
                <a:uFillTx/>
                <a:latin typeface="Tahoma"/>
              </a:rPr>
              <a:t>Poruchy neuromuskulárního spoj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 u="sng">
                <a:solidFill>
                  <a:srgbClr val="ccffff"/>
                </a:solidFill>
                <a:uFillTx/>
                <a:latin typeface="Tahoma"/>
              </a:rPr>
              <a:t>myasthenia gravi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= myastenie těžká), projevuje s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ychlou únavou až obrnou některých sval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utoimunní onemocnění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estrukce acetyl-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holinového receptoru postsynaptick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embrány nervosvalové ploté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cs-CZ" sz="2400" spc="-1" strike="noStrike" u="sng">
                <a:solidFill>
                  <a:srgbClr val="ccffff"/>
                </a:solidFill>
                <a:uFillTx/>
                <a:latin typeface="Tahoma"/>
              </a:rPr>
              <a:t>"drug-induced"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zablokování spojení cholinergními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átkami (inhibitory acetylcholinesterasy). ACh s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rozkládá a způsobuje neustálou depolarizaci spoj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slabost, křeče, tuhnutí zátylku, zvýšená slinná 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ronchiální sekre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spořádání kosterního sval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7" name="svalb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7925040" cy="4794120"/>
          </a:xfrm>
          <a:prstGeom prst="rect">
            <a:avLst/>
          </a:prstGeom>
          <a:ln w="0">
            <a:noFill/>
          </a:ln>
        </p:spPr>
      </p:pic>
      <p:pic>
        <p:nvPicPr>
          <p:cNvPr id="88" name="sval" descr=""/>
          <p:cNvPicPr/>
          <p:nvPr/>
        </p:nvPicPr>
        <p:blipFill>
          <a:blip r:embed="rId3"/>
          <a:stretch/>
        </p:blipFill>
        <p:spPr>
          <a:xfrm>
            <a:off x="304920" y="141120"/>
            <a:ext cx="8076960" cy="67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avba kosterního sval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lustá filament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yos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nká filam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opomyo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opon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statní bílkoviny (aktinin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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inin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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desmin, vimentin, titin 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Tlusté filament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3" name="myosin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8600" y="1905120"/>
            <a:ext cx="87534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Tenké filament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5" name="actin2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3852720"/>
          </a:xfrm>
          <a:prstGeom prst="rect">
            <a:avLst/>
          </a:prstGeom>
          <a:ln w="0">
            <a:noFill/>
          </a:ln>
        </p:spPr>
      </p:pic>
      <p:pic>
        <p:nvPicPr>
          <p:cNvPr id="96" name="actin" descr=""/>
          <p:cNvPicPr/>
          <p:nvPr/>
        </p:nvPicPr>
        <p:blipFill>
          <a:blip r:embed="rId3"/>
          <a:stretch/>
        </p:blipFill>
        <p:spPr>
          <a:xfrm>
            <a:off x="304920" y="0"/>
            <a:ext cx="6933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valový sta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odel klouzajících filament („veslicový model“) –195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ff"/>
                </a:solidFill>
                <a:latin typeface="Tahoma"/>
              </a:rPr>
              <a:t>2 předpoklady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TP – snižuje afinitu myosinu k aktin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ktin – urychluje hydrolýzu ATP myosin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stah" descr=""/>
          <p:cNvPicPr/>
          <p:nvPr/>
        </p:nvPicPr>
        <p:blipFill>
          <a:blip r:embed="rId2"/>
          <a:stretch/>
        </p:blipFill>
        <p:spPr>
          <a:xfrm>
            <a:off x="1600200" y="0"/>
            <a:ext cx="65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gulace stah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ff"/>
                </a:solidFill>
                <a:latin typeface="Tahoma"/>
              </a:rPr>
              <a:t>Nervový podně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acetylcholin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…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Ca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troponin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opomyosin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terakce aktinu s myosinem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ccffff"/>
                </a:solidFill>
                <a:latin typeface="Tahoma"/>
              </a:rPr>
              <a:t>st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[Ca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ahoma"/>
              </a:rPr>
              <a:t>cyt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lidová &lt; 0.1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ahoma"/>
              </a:rPr>
              <a:t>µ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 podnětu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10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ahoma"/>
              </a:rPr>
              <a:t>µ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[Ca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ahoma"/>
              </a:rPr>
              <a:t>SR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&gt; 1 m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Hladký sv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lustá filamen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yo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nká filam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opomyo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Neobsahují tropon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1T13:27:46Z</dcterms:created>
  <dc:creator>Michaela Wimmerová</dc:creator>
  <dc:description/>
  <dc:language>en-US</dc:language>
  <cp:lastModifiedBy>MichaW</cp:lastModifiedBy>
  <dcterms:modified xsi:type="dcterms:W3CDTF">2001-04-02T09:19:34Z</dcterms:modified>
  <cp:revision>21</cp:revision>
  <dc:subject/>
  <dc:title>Biochemie svalu</dc:title>
</cp:coreProperties>
</file>