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3BD6-4202-48F8-822E-ACB8634DF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A8B5-1C5C-4C93-B59C-2D63DA62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834A-420C-46F7-95A4-6EF5501BD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4CAF-1DDA-4026-B431-182A0BFED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EFDB-C7BE-4A6D-A3C4-2792137A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4424-3C96-44EA-A02A-F8983C5C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25B1-29C3-417F-8354-4439C64E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342B-9CF8-4A44-B8A4-F542DC3E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3C23-C43E-46C8-B014-4B71429F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A4C7-0C78-4003-BEBC-6E2E961A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C07E-7B16-4E15-BC7F-B7D5767A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64FC-91B9-42A7-91E7-519D4CA4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5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3CD7-8E8C-4EF9-ACF8-82B958F92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5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ÚVOD DO KLINICKO - BIOCHEMICKÉ ANALYTIKY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FNUSA%20Pekařská%20vchod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693396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6172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 Narrow"/>
              </a:rPr>
              <a:t>Přírodovědecká fakulta, Katedra biochemie, MU Brno, 22.3.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5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Sérum%20vliv%20I-H-L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8001000" cy="60958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5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DBĚROVÉ SOUPRAV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JEDNORÁZOV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SÉRUM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gel x aktivátor sráže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PLAZMA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heparinNH</a:t>
            </a:r>
            <a:r>
              <a:rPr b="1" lang="cs-CZ" sz="28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,Li,EDTA,NaF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781680" y="4114440"/>
            <a:ext cx="990720" cy="1981080"/>
          </a:xfrm>
          <a:prstGeom prst="rect">
            <a:avLst/>
          </a:prstGeom>
          <a:ln w="0">
            <a:noFill/>
          </a:ln>
        </p:spPr>
      </p:pic>
      <p:pic>
        <p:nvPicPr>
          <p:cNvPr id="71" name="Sarstedt%20stříkačky%20obrázek" descr=""/>
          <p:cNvPicPr/>
          <p:nvPr/>
        </p:nvPicPr>
        <p:blipFill>
          <a:blip r:embed="rId2"/>
          <a:stretch/>
        </p:blipFill>
        <p:spPr>
          <a:xfrm>
            <a:off x="228600" y="3276720"/>
            <a:ext cx="5943600" cy="327636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pic>
        <p:nvPicPr>
          <p:cNvPr id="72" name="Sarstedt%20barevné%20rozlišení" descr=""/>
          <p:cNvPicPr/>
          <p:nvPr/>
        </p:nvPicPr>
        <p:blipFill>
          <a:blip r:embed="rId3"/>
          <a:stretch/>
        </p:blipFill>
        <p:spPr>
          <a:xfrm>
            <a:off x="7924680" y="228600"/>
            <a:ext cx="957240" cy="6400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 flipV="1">
            <a:off x="6019920" y="533160"/>
            <a:ext cx="1828800" cy="1143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162920" y="99072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638680" y="1676160"/>
            <a:ext cx="2057400" cy="1143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10280" y="2133720"/>
            <a:ext cx="7621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10280" y="2133720"/>
            <a:ext cx="838440" cy="1143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34320" y="2133720"/>
            <a:ext cx="838080" cy="1600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5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ÁKLADNÍ CHEMICKÉ VYŠETŘENÍ MO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267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PROTEIN/ proteinu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GLUKÓ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BILIRUB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UROBILONO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KREV/ hematu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LEUKOCY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NITRITY/ bakteriu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Močový SED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647960" y="4114440"/>
            <a:ext cx="3809880" cy="1981080"/>
          </a:xfrm>
          <a:prstGeom prst="rect">
            <a:avLst/>
          </a:prstGeom>
          <a:ln w="0">
            <a:noFill/>
          </a:ln>
        </p:spPr>
      </p:pic>
      <p:pic>
        <p:nvPicPr>
          <p:cNvPr id="82" name="HeptaPHAN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810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5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vorba moč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rincip%20moč%20filtrace%20vznik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94820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15155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Schema%20nefronu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382240" cy="571500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457200" y="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CHEMA NEFRON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5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HeptaPHAN - </a:t>
            </a: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BÍLKOVI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362320" y="1143000"/>
            <a:ext cx="6400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PROTEINURI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Fyziologická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do 150 mg/ 24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Patologická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PRERENÁLNÍ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RENÁLNÍ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3399"/>
                </a:solidFill>
                <a:latin typeface="Times New Roman"/>
              </a:rPr>
              <a:t>GLOMERULÁRNÍ</a:t>
            </a:r>
            <a:r>
              <a:rPr b="0" lang="cs-CZ" sz="28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3399"/>
                </a:solidFill>
                <a:latin typeface="Times New Roman"/>
              </a:rPr>
              <a:t>TUBULÁRNÍ</a:t>
            </a:r>
            <a:r>
              <a:rPr b="0" lang="cs-CZ" sz="28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3399"/>
                </a:solidFill>
                <a:latin typeface="Times New Roman"/>
              </a:rPr>
              <a:t>SMÍŠENÁ</a:t>
            </a:r>
            <a:r>
              <a:rPr b="0" lang="cs-CZ" sz="28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POSTRENÁL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Citlivost a specifit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3399"/>
                </a:solidFill>
                <a:latin typeface="Times New Roman"/>
              </a:rPr>
              <a:t>albumin</a:t>
            </a:r>
            <a:r>
              <a:rPr b="0" lang="cs-CZ" sz="28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3399"/>
                </a:solidFill>
                <a:latin typeface="Times New Roman"/>
              </a:rPr>
              <a:t>od 100 do 500 mg/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HeptaPHAN%20bílkoviny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12189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5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HeptaPHAN</a:t>
            </a:r>
            <a:br>
              <a:rPr sz="3200"/>
            </a:b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GLUKÓZA a ketolát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95480" y="1447560"/>
            <a:ext cx="5943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FYZIOLOGICKY   do 1,67 mmol/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GLUKOSURIE = symptom DIABETES MELLI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ledvinový práh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9 - 10 mmol/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3399"/>
                </a:solidFill>
                <a:latin typeface="Times New Roman"/>
              </a:rPr>
              <a:t>GLUKOSURIE = screening pro latentní diabetes melli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citlivost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cca 2 mmol/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interference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C--vitamín,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princip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glukóza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GOD/ POD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ketolátky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Legalova reak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HeptaPHAN%20glukóza%20an%20ketolátky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1523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5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Times New Roman"/>
              </a:rPr>
              <a:t>Princip stanovení GLUKÓZY</a:t>
            </a:r>
            <a:br>
              <a:rPr sz="3600"/>
            </a:b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GOD-POD</a:t>
            </a:r>
            <a:r>
              <a:rPr b="1" lang="cs-CZ" sz="3600" spc="-1" strike="noStrike">
                <a:solidFill>
                  <a:srgbClr val="ffff00"/>
                </a:solidFill>
                <a:latin typeface="Times New Roman"/>
              </a:rPr>
              <a:t>  (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Trinderova reak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95" name="Princip%20Glukóza%20Trinderova%20reakce" descr=""/>
          <p:cNvPicPr/>
          <p:nvPr/>
        </p:nvPicPr>
        <p:blipFill>
          <a:blip r:embed="rId2"/>
          <a:stretch/>
        </p:blipFill>
        <p:spPr>
          <a:xfrm>
            <a:off x="457200" y="1911240"/>
            <a:ext cx="8458200" cy="456588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5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ILIRUBIN a UROBILINO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742840" y="533520"/>
            <a:ext cx="61722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Zvýšená bilirubinurie při zvýšení konjugovaného bilirubinu v krvi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Princip: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 reakce konjug.bilirubinu s triazoniovou solí v kyselém prostřed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Citlivost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cca 5 umol/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Dg. význam: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 žloutenka (ikter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66"/>
                </a:solidFill>
                <a:latin typeface="Times New Roman"/>
              </a:rPr>
              <a:t>Urobilinogen a sterkobilinogen vznikají z bilirubi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0066"/>
                </a:solidFill>
                <a:uFillTx/>
                <a:latin typeface="Times New Roman"/>
              </a:rPr>
              <a:t>Princip:</a:t>
            </a:r>
            <a:r>
              <a:rPr b="1" lang="cs-CZ" sz="2400" spc="-1" strike="noStrike">
                <a:solidFill>
                  <a:srgbClr val="ff0066"/>
                </a:solidFill>
                <a:latin typeface="Times New Roman"/>
              </a:rPr>
              <a:t> azokopulační reakce stabilizované diazoniové soli s urobilinogen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0066"/>
                </a:solidFill>
                <a:uFillTx/>
                <a:latin typeface="Times New Roman"/>
              </a:rPr>
              <a:t>Dg. význam:</a:t>
            </a:r>
            <a:r>
              <a:rPr b="1" lang="cs-CZ" sz="2800" spc="-1" strike="noStrike">
                <a:solidFill>
                  <a:srgbClr val="ff0066"/>
                </a:solidFill>
                <a:latin typeface="Times New Roman"/>
              </a:rPr>
              <a:t>  hemolytická anémie nebo omezení funkce jaterního parenchy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HeptaPHAN%20BIL%20a%20UBG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2057400" cy="586728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5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REV a 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429000" y="685440"/>
            <a:ext cx="5410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Arial Narrow"/>
              </a:rPr>
              <a:t>HEMATURIE/ HEMOGLOBINURIE</a:t>
            </a:r>
            <a:r>
              <a:rPr b="1" lang="cs-CZ" sz="2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ffff00"/>
                </a:solidFill>
                <a:latin typeface="Arial Narrow"/>
              </a:rPr>
              <a:t>fyziologicky  cca do 2-3 Ery/ 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Arial Narrow"/>
              </a:rPr>
              <a:t>Mikrohematurie</a:t>
            </a:r>
            <a:r>
              <a:rPr b="1" lang="cs-CZ" sz="2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ffff00"/>
                </a:solidFill>
                <a:latin typeface="Arial Narrow"/>
              </a:rPr>
              <a:t>cca do 2 500 Ery/ ul</a:t>
            </a:r>
            <a:r>
              <a:rPr b="1" lang="cs-CZ" sz="2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ffff00"/>
                </a:solidFill>
                <a:latin typeface="Arial Narrow"/>
              </a:rPr>
              <a:t>0,5 ml krve do 1 l mo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Arial Narrow"/>
              </a:rPr>
              <a:t>Makrohematurie</a:t>
            </a:r>
            <a:r>
              <a:rPr b="1" lang="cs-CZ" sz="2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cs-CZ" sz="2400" spc="-1" strike="noStrike">
                <a:solidFill>
                  <a:srgbClr val="ffff00"/>
                </a:solidFill>
                <a:latin typeface="Arial Narrow"/>
              </a:rPr>
              <a:t>moč je zbarvena do červena</a:t>
            </a:r>
            <a:r>
              <a:rPr b="1" lang="cs-CZ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Princip:</a:t>
            </a:r>
            <a:r>
              <a:rPr b="0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pseudoperoxidázový účinek hemoglobinu,který katalyzuje oxidaci chromogenu se stabilizovaným org.peroxid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HeptaPHAN%20krev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2133360" cy="594360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5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PŘEHLED stanovovaných ANALYT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KREVNÍ PLYNY 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( pCO</a:t>
            </a:r>
            <a:r>
              <a:rPr b="1" lang="cs-CZ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, pO</a:t>
            </a:r>
            <a:r>
              <a:rPr b="1" lang="cs-CZ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, p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MINERÁLY/ IONTY (Na,K,Cl,Mg,F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ENZYMY ( CK,CK-MB,AMS,AST,L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HORMONY 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( TSH,FT4,TESTO,hC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LÉKY/ TDM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 ( Cy,Digoxin,FK 50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LIPIDY/ Apo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( Cholesterol HDL,Apo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PROTEINY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( CB,ALB,TnI,Ig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TUMOROVÉ MARKERY (PSA,CE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Základní analyty (Glukóza,HbA1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Speciální analyty (sTfr,vitamín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5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MOČOVÝ SEDI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ERYTROCYTY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edviny a močové ces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LEUKOCYTY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nfekce ledvin,záně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VÁLCE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yalinní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amm-Horsfallův uroprote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ranulovan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rytrocytov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atol.proces v ledvině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eukocytov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EPITELIE, KRYSTALY,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bez odstředění (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také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0066"/>
                </a:solidFill>
                <a:latin typeface="Times New Roman"/>
              </a:rPr>
              <a:t>průtoková</a:t>
            </a:r>
            <a:r>
              <a:rPr b="1" lang="cs-CZ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0066"/>
                </a:solidFill>
                <a:latin typeface="Times New Roman"/>
              </a:rPr>
              <a:t>cytometrie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po zahuštění centrifugací </a:t>
            </a:r>
            <a:r>
              <a:rPr b="0" lang="cs-CZ" sz="2800" spc="-1" strike="noStrike">
                <a:solidFill>
                  <a:srgbClr val="ff0066"/>
                </a:solidFill>
                <a:latin typeface="Times New Roman"/>
              </a:rPr>
              <a:t>( nativní a barvený sedi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3886200"/>
            <a:ext cx="3812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86200" y="3352680"/>
            <a:ext cx="121932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86200" y="4190760"/>
            <a:ext cx="106668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15155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Nástupní%20praxe%20úvod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5002200" cy="640080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15155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Nástupní%20praxe%20záznam" descr=""/>
          <p:cNvPicPr/>
          <p:nvPr/>
        </p:nvPicPr>
        <p:blipFill>
          <a:blip r:embed="rId1"/>
          <a:stretch/>
        </p:blipFill>
        <p:spPr>
          <a:xfrm>
            <a:off x="1600200" y="228600"/>
            <a:ext cx="5619600" cy="640080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15155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Nástupní%20praxe%20hodnocení" descr=""/>
          <p:cNvPicPr/>
          <p:nvPr/>
        </p:nvPicPr>
        <p:blipFill>
          <a:blip r:embed="rId1"/>
          <a:stretch/>
        </p:blipFill>
        <p:spPr>
          <a:xfrm>
            <a:off x="2133720" y="304920"/>
            <a:ext cx="4647960" cy="632448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15155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Nástupní%20praxe%20cíl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5105520" cy="640080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15155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FNUSA%20plánek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534160" cy="566892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15155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1890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SEKK%20detail%20vyhodnovení" descr=""/>
          <p:cNvPicPr/>
          <p:nvPr/>
        </p:nvPicPr>
        <p:blipFill>
          <a:blip r:embed="rId1"/>
          <a:stretch/>
        </p:blipFill>
        <p:spPr>
          <a:xfrm>
            <a:off x="1600200" y="952560"/>
            <a:ext cx="5715000" cy="5371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15155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16" name="FNUSA%20Pekařská%20vcho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5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PECIFICKÉ RYS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klinicko - biochemické analytik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66"/>
                </a:solidFill>
                <a:latin typeface="Times New Roman"/>
              </a:rPr>
              <a:t>PREANALYTICKÁ fá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66"/>
                </a:solidFill>
                <a:latin typeface="Times New Roman"/>
              </a:rPr>
              <a:t>ANALYTICKÁ fá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66"/>
                </a:solidFill>
                <a:latin typeface="Times New Roman"/>
              </a:rPr>
              <a:t>POSTANALYTICKÁ fá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Analytická fáze nemůže korigovat chyby fáze preanalytické</a:t>
            </a: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cs-CZ" sz="2800" spc="-1" strike="noStrike">
                <a:solidFill>
                  <a:srgbClr val="ffff00"/>
                </a:solidFill>
                <a:latin typeface="Arial Narrow"/>
              </a:rPr>
              <a:t>(G.von Broviczen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5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Preanalytická fáze zahrnuj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POŽADOVÁNÍ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laboratorního vyšetře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PŘÍPRAVU PACIENTA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informovanost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typ vzorku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analy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190760" y="990360"/>
            <a:ext cx="46479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ODBĚR vzorku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způsob a kvalita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oba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oloha pacienta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ísto odběru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dentifikace vzor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ZACHÁZENÍ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 vzorkem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ransport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uchovávání/skladování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úprava před analýz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BIOLOGICKÉ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fak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INTER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5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Žádanka%20rutinní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5715000" cy="4495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" name="Žádanka%20rutinní%20detail1" descr=""/>
          <p:cNvPicPr/>
          <p:nvPr/>
        </p:nvPicPr>
        <p:blipFill>
          <a:blip r:embed="rId2"/>
          <a:stretch/>
        </p:blipFill>
        <p:spPr>
          <a:xfrm>
            <a:off x="1828800" y="228600"/>
            <a:ext cx="5638680" cy="1244520"/>
          </a:xfrm>
          <a:prstGeom prst="rect">
            <a:avLst/>
          </a:prstGeom>
          <a:ln w="0">
            <a:noFill/>
          </a:ln>
        </p:spPr>
      </p:pic>
      <p:pic>
        <p:nvPicPr>
          <p:cNvPr id="53" name="Žádanka%20rutinní%20detail2" descr=""/>
          <p:cNvPicPr/>
          <p:nvPr/>
        </p:nvPicPr>
        <p:blipFill>
          <a:blip r:embed="rId3"/>
          <a:stretch/>
        </p:blipFill>
        <p:spPr>
          <a:xfrm>
            <a:off x="6248520" y="3048120"/>
            <a:ext cx="2895480" cy="3504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5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Žádanka%20Statim%20detail1" descr=""/>
          <p:cNvPicPr/>
          <p:nvPr/>
        </p:nvPicPr>
        <p:blipFill>
          <a:blip r:embed="rId1"/>
          <a:stretch/>
        </p:blipFill>
        <p:spPr>
          <a:xfrm>
            <a:off x="5562720" y="4648320"/>
            <a:ext cx="3324240" cy="1982520"/>
          </a:xfrm>
          <a:prstGeom prst="rect">
            <a:avLst/>
          </a:prstGeom>
          <a:ln w="0">
            <a:noFill/>
          </a:ln>
        </p:spPr>
      </p:pic>
      <p:pic>
        <p:nvPicPr>
          <p:cNvPr id="55" name="Žádanka%20Statim%20detail2" descr=""/>
          <p:cNvPicPr/>
          <p:nvPr/>
        </p:nvPicPr>
        <p:blipFill>
          <a:blip r:embed="rId2"/>
          <a:stretch/>
        </p:blipFill>
        <p:spPr>
          <a:xfrm>
            <a:off x="5715000" y="228600"/>
            <a:ext cx="3176640" cy="1768320"/>
          </a:xfrm>
          <a:prstGeom prst="rect">
            <a:avLst/>
          </a:prstGeom>
          <a:ln w="0">
            <a:noFill/>
          </a:ln>
        </p:spPr>
      </p:pic>
      <p:pic>
        <p:nvPicPr>
          <p:cNvPr id="56" name="Žádanka%20Statim" descr=""/>
          <p:cNvPicPr/>
          <p:nvPr/>
        </p:nvPicPr>
        <p:blipFill>
          <a:blip r:embed="rId3"/>
          <a:stretch/>
        </p:blipFill>
        <p:spPr>
          <a:xfrm>
            <a:off x="228600" y="1447920"/>
            <a:ext cx="5410080" cy="407808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5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3399"/>
                </a:solidFill>
                <a:latin typeface="Times New Roman"/>
              </a:rPr>
              <a:t>Jak minimalizovat preanalytické vlivy?  </a:t>
            </a:r>
            <a:r>
              <a:rPr b="1" lang="cs-CZ" sz="36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1" lang="cs-CZ" sz="36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1" lang="cs-CZ" sz="36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1" lang="cs-CZ" sz="3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PREVENC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VÝCVIKEM a VZDĚLÁVÁNÍM PERSONÁ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NFORMACEMI pacien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DODRŽOVÁNÍM PŘEDPISŮ nejenom v laboratoři, ale také na klinických pracoviští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Legalizací STANDARDNÍCH OPERAČNÍCH POSTUPŮ (SO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Přímou IDENTIFIKACÍ VZORK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Používáním PRIMÁRNÍCH ODBĚROVÝCH nádob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Provázaností LIS a N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990720"/>
            <a:ext cx="17524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5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NALYZOVANÝ MATERIÁ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3399"/>
                </a:solidFill>
                <a:latin typeface="Times New Roman"/>
              </a:rPr>
              <a:t>B-</a:t>
            </a:r>
            <a:r>
              <a:rPr b="1" lang="cs-CZ" sz="3200" spc="-1" strike="noStrike" u="sng">
                <a:solidFill>
                  <a:srgbClr val="ff3399"/>
                </a:solidFill>
                <a:uFillTx/>
                <a:latin typeface="Times New Roman"/>
              </a:rPr>
              <a:t>KREV</a:t>
            </a:r>
            <a:r>
              <a:rPr b="1" lang="cs-CZ" sz="3200" spc="-1" strike="noStrike" u="sng">
                <a:solidFill>
                  <a:srgbClr val="ff3399"/>
                </a:solidFill>
                <a:uFillTx/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3399"/>
                </a:solidFill>
                <a:latin typeface="Times New Roman"/>
              </a:rPr>
              <a:t>srážlivá</a:t>
            </a:r>
            <a:r>
              <a:rPr b="1" lang="cs-CZ" sz="32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3399"/>
                </a:solidFill>
                <a:latin typeface="Times New Roman"/>
              </a:rPr>
              <a:t>nesrážlivá</a:t>
            </a:r>
            <a:r>
              <a:rPr b="1" lang="cs-CZ" sz="32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3399"/>
                </a:solidFill>
                <a:latin typeface="Times New Roman"/>
              </a:rPr>
              <a:t>venózní</a:t>
            </a:r>
            <a:r>
              <a:rPr b="1" lang="cs-CZ" sz="32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3399"/>
                </a:solidFill>
                <a:latin typeface="Times New Roman"/>
              </a:rPr>
              <a:t>arteriální</a:t>
            </a:r>
            <a:r>
              <a:rPr b="1" lang="cs-CZ" sz="32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3399"/>
                </a:solidFill>
                <a:latin typeface="Times New Roman"/>
              </a:rPr>
              <a:t>kapilární</a:t>
            </a:r>
            <a:r>
              <a:rPr b="1" lang="cs-CZ" sz="32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3399"/>
                </a:solidFill>
                <a:latin typeface="Times New Roman"/>
              </a:rPr>
              <a:t>nalačno</a:t>
            </a:r>
            <a:r>
              <a:rPr b="1" lang="cs-CZ" sz="32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3399"/>
                </a:solidFill>
                <a:latin typeface="Times New Roman"/>
              </a:rPr>
              <a:t>ranní</a:t>
            </a:r>
            <a:r>
              <a:rPr b="1" lang="cs-CZ" sz="32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3399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3399"/>
                </a:solidFill>
                <a:latin typeface="Times New Roman"/>
              </a:rPr>
              <a:t>S-</a:t>
            </a:r>
            <a:r>
              <a:rPr b="1" lang="cs-CZ" sz="3200" spc="-1" strike="noStrike" u="sng">
                <a:solidFill>
                  <a:srgbClr val="ff3399"/>
                </a:solidFill>
                <a:uFillTx/>
                <a:latin typeface="Times New Roman"/>
              </a:rPr>
              <a:t>SÉ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3399"/>
                </a:solidFill>
                <a:latin typeface="Times New Roman"/>
              </a:rPr>
              <a:t>P-</a:t>
            </a:r>
            <a:r>
              <a:rPr b="1" lang="cs-CZ" sz="3200" spc="-1" strike="noStrike" u="sng">
                <a:solidFill>
                  <a:srgbClr val="ff3399"/>
                </a:solidFill>
                <a:uFillTx/>
                <a:latin typeface="Times New Roman"/>
              </a:rPr>
              <a:t>PLAZMA</a:t>
            </a:r>
            <a:r>
              <a:rPr b="1" lang="cs-CZ" sz="3200" spc="-1" strike="noStrike">
                <a:solidFill>
                  <a:srgbClr val="ff3399"/>
                </a:solidFill>
                <a:latin typeface="Times New Roman"/>
              </a:rPr>
              <a:t>/ heparin Li, EDTA, citrát</a:t>
            </a:r>
            <a:r>
              <a:rPr b="1" lang="cs-CZ" sz="3200" spc="-1" strike="noStrike">
                <a:solidFill>
                  <a:srgbClr val="ff3399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3399"/>
                </a:solidFill>
                <a:latin typeface="Times New Roman"/>
              </a:rPr>
              <a:t>U</a:t>
            </a:r>
            <a:r>
              <a:rPr b="1" lang="cs-CZ" sz="3200" spc="-1" strike="noStrike" u="sng">
                <a:solidFill>
                  <a:srgbClr val="ff3399"/>
                </a:solidFill>
                <a:uFillTx/>
                <a:latin typeface="Times New Roman"/>
              </a:rPr>
              <a:t>-MOČ</a:t>
            </a:r>
            <a:r>
              <a:rPr b="1" lang="cs-CZ" sz="3200" spc="-1" strike="noStrike" u="sng">
                <a:solidFill>
                  <a:srgbClr val="ff3399"/>
                </a:solidFill>
                <a:uFillTx/>
                <a:latin typeface="Times New Roman"/>
              </a:rPr>
              <a:t>	</a:t>
            </a:r>
            <a:r>
              <a:rPr b="1" lang="cs-CZ" sz="3200" spc="-1" strike="noStrike" u="sng">
                <a:solidFill>
                  <a:srgbClr val="ff3399"/>
                </a:solidFill>
                <a:uFillTx/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3399"/>
                </a:solidFill>
                <a:latin typeface="Times New Roman"/>
              </a:rPr>
              <a:t>jednorázová</a:t>
            </a:r>
            <a:r>
              <a:rPr b="1" lang="cs-CZ" sz="32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3399"/>
                </a:solidFill>
                <a:latin typeface="Times New Roman"/>
              </a:rPr>
              <a:t>sbír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3399"/>
                </a:solidFill>
                <a:latin typeface="Times New Roman"/>
              </a:rPr>
              <a:t>CEREBROSPINÁLNÍ tekutina (LIKV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3399"/>
                </a:solidFill>
                <a:latin typeface="Times New Roman"/>
              </a:rPr>
              <a:t>STOLICE, SLINY, POT, VÝPOT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3399"/>
                </a:solidFill>
                <a:latin typeface="Times New Roman"/>
              </a:rPr>
              <a:t>Močový KÁMEN,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155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DBĚR biologického materiál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3399"/>
                </a:solidFill>
                <a:latin typeface="Times New Roman"/>
              </a:rPr>
              <a:t>REŽIM před odběr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3399"/>
                </a:solidFill>
                <a:latin typeface="Times New Roman"/>
              </a:rPr>
              <a:t>DRUH ANAL. MATERIÁ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3399"/>
                </a:solidFill>
                <a:latin typeface="Times New Roman"/>
              </a:rPr>
              <a:t>POLOHA pacienta </a:t>
            </a:r>
            <a:r>
              <a:rPr b="0" lang="cs-CZ" sz="32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3399"/>
                </a:solidFill>
                <a:latin typeface="Times New Roman"/>
              </a:rPr>
              <a:t>bez manžety</a:t>
            </a:r>
            <a:r>
              <a:rPr b="0" lang="cs-CZ" sz="32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3399"/>
                </a:solidFill>
                <a:latin typeface="Times New Roman"/>
              </a:rPr>
              <a:t> s manžetou</a:t>
            </a:r>
            <a:r>
              <a:rPr b="0" lang="cs-CZ" sz="32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3399"/>
                </a:solidFill>
                <a:latin typeface="Times New Roman"/>
              </a:rPr>
              <a:t>vleže</a:t>
            </a:r>
            <a:r>
              <a:rPr b="0" lang="cs-CZ" sz="32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3399"/>
                </a:solidFill>
                <a:latin typeface="Times New Roman"/>
              </a:rPr>
              <a:t> vsed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9144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alší vliv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4191120"/>
            <a:ext cx="8458200" cy="42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Times New Roman"/>
              </a:rPr>
              <a:t>VZHLED biologického materiál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3399"/>
                </a:solidFill>
                <a:latin typeface="Times New Roman"/>
              </a:rPr>
              <a:t>HEMOLYTICK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3399"/>
                </a:solidFill>
                <a:latin typeface="Times New Roman"/>
              </a:rPr>
              <a:t>IKTERICK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3399"/>
                </a:solidFill>
                <a:latin typeface="Times New Roman"/>
              </a:rPr>
              <a:t>CHYLÓZNÍ/ lipemick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2T09:20:42Z</dcterms:created>
  <dc:creator>RNDr. Petr Breinek</dc:creator>
  <dc:description/>
  <dc:language>en-US</dc:language>
  <cp:lastModifiedBy>RNDr. Petr Breinek</cp:lastModifiedBy>
  <cp:lastPrinted>2001-03-13T12:55:34Z</cp:lastPrinted>
  <dcterms:modified xsi:type="dcterms:W3CDTF">2001-03-13T12:56:40Z</dcterms:modified>
  <cp:revision>58</cp:revision>
  <dc:subject/>
  <dc:title>Bez nadpisu</dc:title>
</cp:coreProperties>
</file>