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29D-5012-4929-8B79-C81ABDA8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314-5999-4600-BC16-212D3A9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C86-EDF9-4745-A4FF-958270CB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216-72F5-4FF7-A527-0CCE7F41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949-66CA-4C7E-B44C-F62A0060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887-9685-4140-860E-0D20BF3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8F0-0151-4405-A5FD-4FBE7B5F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159-3FE3-4B1D-B1B7-A47AE76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ADA-229B-4B7E-9B30-24CB28B5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C7C-C6AC-4AD4-962C-16891507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AA6-1C80-42BE-830E-1286A50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29A-F234-4ACC-8191-A395C22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E389-BC8F-4919-A16B-85CE7C884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NOVENÍ KATALYTICKÉ KONCENTRACE  ENZY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NUSA%20Pekařská%20vchod" descr=""/>
          <p:cNvPicPr/>
          <p:nvPr/>
        </p:nvPicPr>
        <p:blipFill>
          <a:blip r:embed="rId1"/>
          <a:stretch/>
        </p:blipFill>
        <p:spPr>
          <a:xfrm>
            <a:off x="1143000" y="1409760"/>
            <a:ext cx="6934320" cy="46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061d"/>
                </a:solidFill>
                <a:latin typeface="Arial Narrow"/>
              </a:rPr>
              <a:t>Přírodovědecká fakulta, Katedra biochemie, MU Brno, 19.4.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lexRate%202" descr=""/>
          <p:cNvPicPr/>
          <p:nvPr/>
        </p:nvPicPr>
        <p:blipFill>
          <a:blip r:embed="rId1"/>
          <a:stretch/>
        </p:blipFill>
        <p:spPr>
          <a:xfrm>
            <a:off x="271440" y="304920"/>
            <a:ext cx="860112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 - stanove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1)  „ KINETICKÉ“ metod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tometrické sledování časové změny absorbance (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t.j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rychlost reakce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jednotky 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kat/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2)  IMUNOCHEMICKÉ metody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tanovujem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hmotnostní koncentraci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enzymu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jednotky    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g/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L-aspartát + 2-oxoglutarát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oxalacetát + L-glutam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oxalacetát 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 u="sng">
                <a:solidFill>
                  <a:srgbClr val="f6061d"/>
                </a:solidFill>
                <a:uFillTx/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6061d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L-malát + NAD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yruvát +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L-laktát + NAD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yridoxal-5-fosfát + ApoAST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S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oporučuje se předinkubace 10 min při +37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o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tart : 2-oxoglutarát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( 2 činidlová 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tart :  sérum            ( 1 činidlová 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kalibrace: enzymový kalibrátor nebo teoretický fa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914400"/>
            <a:ext cx="85345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ogen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447920"/>
            <a:ext cx="838188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 myokardu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nekróza, A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kosterního sval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aterní choro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obsažena v cytoplasmě(30%) a v mitochondriích(70%) všech buněk ( zvláště hepatocytů,buněk srdečního svalu, ledvin a kosterních sval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L-alanin + 2-oxoglutarát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pyruvát + L-glutam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pyruvát 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 u="sng">
                <a:solidFill>
                  <a:srgbClr val="f6061d"/>
                </a:solidFill>
                <a:uFillTx/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6061d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L-laktát + NAD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yruvát +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L-laktát + NAD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6061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6061d"/>
                </a:solidFill>
                <a:latin typeface="Arial Narrow"/>
              </a:rPr>
              <a:t>pyridoxal-5-fosfát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+ ApoAST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S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oporučuje se předinkubace 10 min při +37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o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tart : 2-oxoglutarát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( 2 činidlová 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tart :  sérum            ( 1 činidlová 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kalibrace: enzymový kalibrátor nebo teoretický fak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14400"/>
            <a:ext cx="85345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ogen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76520"/>
            <a:ext cx="9144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jater ( akutní virová hepatit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žlučových c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ekompenzované srdeční vady (venostáza v játr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obsažena v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ytoplasmě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všech buněk ( zvláště hepatocytů, buněk srdečního svalu, ledvin a kosterních sva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POLYSACHARIDY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OLIGOSACHARIDY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MALTÓZA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štěpí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f6061d"/>
                </a:solidFill>
                <a:latin typeface="Symbol"/>
                <a:ea typeface="Symbol"/>
              </a:rPr>
              <a:t>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-1,4 glykozidické vaz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AMYLOKLASTICKÉ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ŠKROB </a:t>
            </a:r>
            <a:r>
              <a:rPr b="1" lang="cs-CZ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OLIGOSACHARID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MALTÓZA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+ roztok jodu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modré zbarv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SACHAROGENNÍ 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CHROMOLYTICKÉ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Substrát = 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nerozpustný škrob s kovalentně vázaným barviv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480"/>
            <a:ext cx="85345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s MOLEKULÁRNĚ DEFINOVANÝMI SUBSTRÁT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substráty značené </a:t>
            </a:r>
            <a:r>
              <a:rPr b="0" lang="cs-CZ" sz="3200" spc="-1" strike="noStrike">
                <a:solidFill>
                  <a:srgbClr val="f6061d"/>
                </a:solidFill>
                <a:latin typeface="Arial Narrow"/>
              </a:rPr>
              <a:t>4-nitrofenolem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na konci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definovaného oligosacharidu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f6061d"/>
                </a:solidFill>
                <a:latin typeface="Symbol"/>
                <a:ea typeface="Symbol"/>
              </a:rPr>
              <a:t>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-glukosidáza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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MALTOSA + H</a:t>
            </a:r>
            <a:r>
              <a:rPr b="1" lang="cs-CZ" sz="36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O </a:t>
            </a:r>
            <a:r>
              <a:rPr b="0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2 GLUKÓZA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metoda IFCC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1 molekula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4,6-ethyliden(G7)-4-nitrofenyl(G1)-</a:t>
            </a:r>
            <a:r>
              <a:rPr b="1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-(1,4)-D-maltoheptaosidu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7 molekul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glukózy +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1 molekula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4-nitrofen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1055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Molární absorpční koeficient  4- nitrofenolu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vodný roztok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1 056,8 (12) m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/ mol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bílkovinný roztok      975,0 (18) m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/ mol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 koncentrace celkových bílkovin 65 - 77 g/l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CRM-BCR 318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certifikovaný referenční materi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ruhá varianta substrátu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ro měření AM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2-chloro-4-nitrofenyl-</a:t>
            </a:r>
            <a:r>
              <a:rPr b="1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-D-maltotriosid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Izoenzymy 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SLINNÝ a PANKREATICKÝ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izoenzym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geneticky podmíněný polymorfismu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MAKROAMYLÁZOVÝ komplex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= komplexy glykosylovaných izoenzymů s imunoglobulíny a jinými bílkovinami v séru  Mr = 400 000 až 2 000 000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Biokatalyzá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Snižují aktivační energii potřebnou pro chemickou reak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V klinické biochemii se enzymy používají: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pro diagnostické účely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jako reagen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Názvoslo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triviální / historické      TRY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obecně užívané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-AMYLÁZA ( AM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vědecké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1,4-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-D-glukan glukanohydrolá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EC 3.2.1.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Izoenzymy 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GELOVÁ FILT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IZOELEKTRICKÁ FOKU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ELEKTROFORÉ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INHIBIČNÍ metod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6672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600200"/>
            <a:ext cx="84582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pankreatu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kutní pankreatitida, 5-12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slinných žláz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 parotit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řítomnost makroamylasového komplex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MS je sekreční enzym vytvářený pankreatem, slinnými žlázami, část vzniká v játrech, plící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érum obsahuje přibližně stejnou katalytickou koncentraci pankreatického a slinného izoenzy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33920" y="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09480"/>
            <a:ext cx="8610480" cy="72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TRI- a DIACYLGLYROLY + H</a:t>
            </a:r>
            <a:r>
              <a:rPr b="1" lang="cs-CZ" sz="28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O 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GLYCEROL + 3-,2 M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TITRAČNÍ                         ( stanovení M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TURBIDIMETRICKÉ       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( snížení záka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„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fotometrické“        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( stanovení glycero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GLYCEROL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+ ATP </a:t>
            </a:r>
            <a:r>
              <a:rPr b="0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GLYCEROL-3-FOSFÁT + A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Glycerol-3-fosfát+ O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ihydroxyacetonfosfát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24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2H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+ 4-AAP + deriv.fenolu </a:t>
            </a:r>
            <a:r>
              <a:rPr b="1" lang="cs-CZ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4H</a:t>
            </a:r>
            <a:r>
              <a:rPr b="1" lang="cs-CZ" sz="32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O 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barevný deriv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Arial Narrow"/>
              </a:rPr>
              <a:t>micelární komplexy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„nerozpustný substrát-kolipasa-žlučová kyselina (pH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poznámka: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LPS pankreatická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a jaterní, lipoproteinová L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33520"/>
            <a:ext cx="8077320" cy="76176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228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914400"/>
            <a:ext cx="4114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90512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0512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etekce a vyloučení akutní pankreatit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chronická pankreatitida ( relapsujíc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bstrukce pankreatického tra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57600" y="457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990720"/>
            <a:ext cx="6705720" cy="2434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monoestery kyseliny o-fosforečné + H</a:t>
            </a:r>
            <a:r>
              <a:rPr b="1" lang="cs-CZ" sz="36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MT Extra"/>
                <a:ea typeface="MT Extra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alkohol / fenol + fosforečnan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819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581280"/>
            <a:ext cx="9144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4-NITROFENYLFOSFÁT + H</a:t>
            </a:r>
            <a:r>
              <a:rPr b="1" lang="cs-CZ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cs-CZ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4-NITROFENOL+ fosforeč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23880"/>
            <a:ext cx="9144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j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žlučových c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kos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yziologicky zvýšené hodnoty: dět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a ženy (3 trimestr těhoten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éru dospělých zdravých osob převažují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jaterní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izoenzymy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zdravých dětí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kostní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izoenzym,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u těhotných žen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lacentární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izoenzy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a u osob s krevní skupinou 0 a B stopy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střevního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izoenzy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ALP a izoenzy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N-methyl-D-glucamin (MEG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)    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( v ČR stand.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2-amino-2-methyl-1-propanol (AMP) 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(IFCC meto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Diethanolamin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                                                (DGK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IMUNOCHEMICKY ( kostní izo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ELEKTROFORÉ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INAKTIVAČNĚ - INHIBIČNÍ 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srážení LEKTINEM ( kostní izo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600" spc="-1" strike="noStrike">
                <a:solidFill>
                  <a:srgbClr val="f6061d"/>
                </a:solidFill>
                <a:latin typeface="Arial"/>
              </a:rPr>
              <a:t>ALP v rozpuštěných lyofilizátech je nutné</a:t>
            </a:r>
            <a:r>
              <a:rPr b="0" lang="cs-CZ" sz="3600" spc="-1" strike="noStrike">
                <a:solidFill>
                  <a:srgbClr val="f6061d"/>
                </a:solidFill>
                <a:latin typeface="Arial"/>
              </a:rPr>
              <a:t> reaktivovat</a:t>
            </a:r>
            <a:r>
              <a:rPr b="0" lang="cs-CZ" sz="3600" spc="-1" strike="noStrike">
                <a:solidFill>
                  <a:srgbClr val="f6061d"/>
                </a:solidFill>
                <a:latin typeface="Arial"/>
              </a:rPr>
              <a:t> ( 2h při lab.teplotě)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68580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57600" y="457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56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pH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&lt; 7,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4-NITROFENYLFOSFÁT + H</a:t>
            </a:r>
            <a:r>
              <a:rPr b="1" lang="cs-CZ" sz="28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O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4-NITROFENOL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+ fosforeč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1-NAFTYLFOSFÁT + H</a:t>
            </a:r>
            <a:r>
              <a:rPr b="1" lang="cs-CZ" sz="28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O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1-NAFTOL + fosforeč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1-NAFTOL + diazoniová sůl </a:t>
            </a:r>
            <a:r>
              <a:rPr b="1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 azobarv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detekce prostatického izoenzymu: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ACP - ACP inhibovaná vínanem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76520"/>
            <a:ext cx="914400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prostaty ( karcin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ěkterá kostní onemocnění (tumory a metastáz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chronická ledvinná nedostate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éru lze dokázat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rostatický a kostní izoenzy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dále malé množství </a:t>
            </a:r>
            <a:r>
              <a:rPr b="0" i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jaterního,erytrocytárního a trombocytárního izoenzy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6061d"/>
                </a:solidFill>
                <a:latin typeface="Arial"/>
              </a:rPr>
              <a:t>ACP není v séru/plazmě stabilní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ACPP je pro dg.ca prostaty nahrazováno imunochemickým stanovením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</a:rPr>
              <a:t>P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57600" y="457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KREATINFOSFÁT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+ ADP </a:t>
            </a:r>
            <a:r>
              <a:rPr b="1" lang="en-US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KREATIN +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P + D-GLUKOSA 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DP  + D-GLUKOSO-6-FOSFÁ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-GLU-6-P  +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NADP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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D-GLUKONÁT-6-P +</a:t>
            </a:r>
            <a:r>
              <a:rPr b="0" lang="en-US" sz="3200" spc="-1" strike="noStrike" u="sng">
                <a:solidFill>
                  <a:srgbClr val="f6061d"/>
                </a:solidFill>
                <a:uFillTx/>
                <a:latin typeface="Arial Narrow"/>
              </a:rPr>
              <a:t>NADPH+H</a:t>
            </a:r>
            <a:r>
              <a:rPr b="1" lang="en-US" sz="3200" spc="-1" strike="noStrike" u="sng" baseline="30000">
                <a:solidFill>
                  <a:srgbClr val="f6061d"/>
                </a:solidFill>
                <a:uFillTx/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24080"/>
            <a:ext cx="91440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REAKTIVACE: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doporučuje se N-ACETYL CYSTEIN  ( N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Je to DIMER skládající se ze 2 podjednotek: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M ( muscle)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       B  (brain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Kombinací vznikají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3 izoenzymy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: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CK-MM, CK-MB, CK-BB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CK- mak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6061d"/>
                </a:solidFill>
                <a:latin typeface="Arial Narrow"/>
              </a:rPr>
              <a:t>CK-MB mass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(hmotnostní koncentrace) </a:t>
            </a:r>
            <a:r>
              <a:rPr b="1" i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IMUNOCHEM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 - stanove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1)  „ KINETICKÉ“ test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fotometrické sledování časové změny absorbance (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t.j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rychlost reak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581280"/>
            <a:ext cx="8458200" cy="2064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mín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tantní rychlost   ( kinetika 0.řád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ždy kontrolovat průběh reakc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98108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mocnění kosterního sval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mocnění srdečního svalu  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arkt myokardu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OFORMY isoenzymů CK-MM a CK-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7120" y="83772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2 lysiny CKMM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1 lysin   CKM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0 lysin   CK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1 lysin   CKM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0 lysin  CKM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myok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karboxypeptid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rincip%20CK-MB%20Isoformy" descr=""/>
          <p:cNvPicPr/>
          <p:nvPr/>
        </p:nvPicPr>
        <p:blipFill>
          <a:blip r:embed="rId1"/>
          <a:stretch/>
        </p:blipFill>
        <p:spPr>
          <a:xfrm>
            <a:off x="0" y="838080"/>
            <a:ext cx="6477120" cy="4584960"/>
          </a:xfrm>
          <a:prstGeom prst="rect">
            <a:avLst/>
          </a:prstGeom>
          <a:ln w="0">
            <a:noFill/>
          </a:ln>
        </p:spPr>
      </p:pic>
      <p:pic>
        <p:nvPicPr>
          <p:cNvPr id="128" name="Princip%20CK-MB%20Isoformy%20text" descr=""/>
          <p:cNvPicPr/>
          <p:nvPr/>
        </p:nvPicPr>
        <p:blipFill>
          <a:blip r:embed="rId2"/>
          <a:stretch/>
        </p:blipFill>
        <p:spPr>
          <a:xfrm>
            <a:off x="3417840" y="5181480"/>
            <a:ext cx="572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SCHEMICKÁ KASKÁ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MI%20ischemická%20kaskáda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Časový průběh některých kardiálních markerů po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růběh%20AIM%20Tn,CKMB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915400" cy="5638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061d"/>
                </a:solidFill>
                <a:latin typeface="Arial Black"/>
              </a:rPr>
              <a:t>Úkoly klinické biochemie při dg. a léčbě 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14400"/>
            <a:ext cx="9144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hlivá diagno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ování průbě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ouzení rozsa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2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ování úspěšnosti reperfu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38280"/>
            <a:ext cx="9144000" cy="43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marker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signifikantní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kulminace  pokles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poznám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99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vzestup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  k norm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AST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4-8 h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16-48 h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3- 6 d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specifita pro myokard nízk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LD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6-12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 24 h      7-15 d  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specifita pro myokard nízk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HBD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12-96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24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   7-20 d  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ruší hemolý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CKMB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 3-6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12-24 h    48-72 h 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Ery  0%, cytoplazma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TnT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 3-6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12-36 h    10-14 d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nedostatečná standardiz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Myo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 1-2 h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 Narrow"/>
              </a:rPr>
              <a:t>   6-9 h     14-36 h  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nespecifické zvýšení při 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    poškození kost.svalstva a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         poklesu G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n%20AIM%20marker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76520" y="457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Izoenzymy 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74960" y="1217520"/>
          <a:ext cx="6227640" cy="52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1217520"/>
                    <a:ext cx="622764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29718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ředpoklad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K-BB v séru nepřítomen  (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tom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K-B x 2 = CK-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odel tenkého myofilamenta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-TROPON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chema%20tenkého%20myofilamenta%20Tn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57600" y="228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90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pyruvát +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6061d"/>
                </a:solidFill>
                <a:uFillTx/>
                <a:latin typeface="Arial"/>
              </a:rPr>
              <a:t>NADH + H</a:t>
            </a:r>
            <a:r>
              <a:rPr b="1" lang="cs-CZ" sz="3200" spc="-1" strike="noStrike" baseline="30000">
                <a:solidFill>
                  <a:srgbClr val="f6061d"/>
                </a:solidFill>
                <a:latin typeface="Arial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L-laktát + NAD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28800"/>
            <a:ext cx="91440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Je to TETRAMÉR skládající se ze 2 podjednotek: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M ( muscle)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    H  (heart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Kombinací vzniká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Arial Narrow"/>
              </a:rPr>
              <a:t> </a:t>
            </a: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Arial Narrow"/>
              </a:rPr>
              <a:t>5</a:t>
            </a:r>
            <a:r>
              <a:rPr b="1" i="1" lang="cs-CZ" sz="3200" spc="-1" strike="noStrike" u="sng">
                <a:solidFill>
                  <a:srgbClr val="ffff00"/>
                </a:solidFill>
                <a:uFillTx/>
                <a:latin typeface="Arial Narrow"/>
              </a:rPr>
              <a:t> izoenzymů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 :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LD1   H4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 LD2   H3M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 LD3    H2M2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 LD4    HM3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 LD5    M4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4160" y="620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676520"/>
            <a:ext cx="85341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srdečního svalu  (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nfarkt myokardu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sva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alší choroby (hemolytická anémie, leukémie, onemocnění jaterního parenchymu,...hemolý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D je cytoplasmatický enzym katalyzuje reakci anaerobní glykolýzy, to vysvětluje nález LD prakticky ve všech tkání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exRate%20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629400"/>
          </a:xfrm>
          <a:prstGeom prst="rect">
            <a:avLst/>
          </a:prstGeom>
          <a:ln w="0">
            <a:noFill/>
          </a:ln>
        </p:spPr>
      </p:pic>
      <p:pic>
        <p:nvPicPr>
          <p:cNvPr id="51" name="FlexRate%20legend" descr=""/>
          <p:cNvPicPr/>
          <p:nvPr/>
        </p:nvPicPr>
        <p:blipFill>
          <a:blip r:embed="rId2"/>
          <a:stretch/>
        </p:blipFill>
        <p:spPr>
          <a:xfrm>
            <a:off x="304920" y="2886120"/>
            <a:ext cx="1447560" cy="39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676520" y="457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Izoenzymy 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990720"/>
            <a:ext cx="9144000" cy="59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DETEKCE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l-laktát + NAD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pyruvát 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NADH + H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+ </a:t>
            </a:r>
            <a:r>
              <a:rPr b="0" lang="cs-CZ" sz="3200" spc="-1" strike="noStrike">
                <a:solidFill>
                  <a:srgbClr val="f6061d"/>
                </a:solidFill>
                <a:latin typeface="Arial Narrow"/>
              </a:rPr>
              <a:t>tetrazoliová sůl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NAD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 </a:t>
            </a:r>
            <a:r>
              <a:rPr b="0" lang="cs-CZ" sz="3200" spc="-1" strike="noStrike" u="sng">
                <a:solidFill>
                  <a:srgbClr val="f6061d"/>
                </a:solidFill>
                <a:uFillTx/>
                <a:latin typeface="Arial Narrow"/>
              </a:rPr>
              <a:t>FORMAZAN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6061d"/>
                </a:solidFill>
                <a:latin typeface="Arial Narrow"/>
              </a:rPr>
              <a:t>     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NBT,INT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0" lang="cs-CZ" sz="2400" spc="-1" strike="noStrike">
                <a:solidFill>
                  <a:srgbClr val="f6061d"/>
                </a:solidFill>
                <a:latin typeface="Arial Black"/>
              </a:rPr>
              <a:t>nerozpustn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HB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2-OXOBUTYRÁT + </a:t>
            </a:r>
            <a:r>
              <a:rPr b="0" lang="cs-CZ" sz="2800" spc="-1" strike="noStrike" u="sng">
                <a:solidFill>
                  <a:srgbClr val="f6061d"/>
                </a:solidFill>
                <a:uFillTx/>
                <a:latin typeface="Arial Narrow"/>
              </a:rPr>
              <a:t>NADH + H</a:t>
            </a:r>
            <a:r>
              <a:rPr b="0" lang="cs-CZ" sz="2800" spc="-1" strike="noStrike" u="sng" baseline="30000">
                <a:solidFill>
                  <a:srgbClr val="f6061d"/>
                </a:solidFill>
                <a:uFillTx/>
                <a:latin typeface="Arial Narrow"/>
              </a:rPr>
              <a:t>+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0" lang="cs-CZ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  2-HYDROXYBURYRÁT</a:t>
            </a:r>
            <a:r>
              <a:rPr b="0" lang="cs-CZ" sz="2800" spc="-1" strike="noStrike" baseline="30000">
                <a:solidFill>
                  <a:srgbClr val="ffff00"/>
                </a:solidFill>
                <a:latin typeface="Arial Narrow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Arial Narrow"/>
              </a:rPr>
              <a:t>+ NAD</a:t>
            </a:r>
            <a:r>
              <a:rPr b="0" lang="cs-CZ" sz="2800" spc="-1" strike="noStrike" baseline="30000">
                <a:solidFill>
                  <a:srgbClr val="ffff00"/>
                </a:solidFill>
                <a:latin typeface="Arial Narrow"/>
              </a:rPr>
              <a:t>+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57600" y="228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MT / GG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2120"/>
            <a:ext cx="868680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Katalyzuj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přenos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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-glutamylového zbytku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-glutamylpeptidů na jiný akceptor ( např. peptid nebo aminokysel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Black"/>
              </a:rPr>
              <a:t>METODY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-L-glutamyl-3-karboxy-4-nitranilid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(GLUCA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-L-glutamyl-4-nitranilid                   (GLU-4-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GLUCANE + Glygly </a:t>
            </a:r>
            <a:r>
              <a:rPr b="0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GLU-Glygly + </a:t>
            </a:r>
            <a:r>
              <a:rPr b="0" lang="cs-CZ" sz="3200" spc="-1" strike="noStrike" u="sng">
                <a:solidFill>
                  <a:srgbClr val="f6061d"/>
                </a:solidFill>
                <a:uFillTx/>
                <a:latin typeface="Arial Narrow"/>
              </a:rPr>
              <a:t>5-A-2N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5-AMINO-2-NITROBENZO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GLU-4-NA + Glygly </a:t>
            </a:r>
            <a:r>
              <a:rPr b="0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GLU-Glygly + </a:t>
            </a:r>
            <a:r>
              <a:rPr b="0" lang="cs-CZ" sz="3200" spc="-1" strike="noStrike" u="sng">
                <a:solidFill>
                  <a:srgbClr val="f6061d"/>
                </a:solidFill>
                <a:uFillTx/>
                <a:latin typeface="Arial Narrow"/>
              </a:rPr>
              <a:t>4-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4-NITROANI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M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447920"/>
            <a:ext cx="845820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nemocnění j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obstrukce žlučových c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ekundární nádory j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onitorování chronického alkohol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MT je vázána na cytoplasmatické membrá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krvi dokazatelný enzym je jen jaterního původ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657600" y="228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64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estery CHOLINU + H</a:t>
            </a:r>
            <a:r>
              <a:rPr b="1" lang="cs-CZ" sz="32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O  </a:t>
            </a:r>
            <a:r>
              <a:rPr b="1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  CHOLIN + příslušná kyse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cc00"/>
                </a:solidFill>
                <a:latin typeface="Arial Narrow"/>
              </a:rPr>
              <a:t>Sérum / pl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ACETYLCHOLINESTERASA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(substrát: acetylcholin)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je obsažena v Ery, mozk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SEUDOCHOLINESTERASA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pochází z ribosomů jaterních buněk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thioestery cholinu + H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Arial Narrow"/>
              </a:rPr>
              <a:t>2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O  </a:t>
            </a:r>
            <a:r>
              <a:rPr b="0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 thiocholin + butyrá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thiocholin + DTNB  </a:t>
            </a:r>
            <a:r>
              <a:rPr b="0" lang="cs-CZ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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Arial Narrow"/>
              </a:rPr>
              <a:t>5-merkapto-2-nitrobenzoová kyse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TNB=kyselina 5,5´dithio-bis-nitrobenzoová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Arial Narrow"/>
              </a:rPr>
              <a:t>žlut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8580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 Black"/>
              </a:rPr>
              <a:t>Klinický.výz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752480"/>
            <a:ext cx="8229600" cy="50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E vzniká v ribosomech jaterních buněk a je secernována do krve. Patologické je především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nížení aktivit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poruchy proteosyntézy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těžké hepatopatie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hladovění organis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intoxikace organofosfáty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nekompetetivní inhib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rozené chybění, atypické varian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 v mo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066680"/>
            <a:ext cx="8915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1. NAG ( N-acetyl-beta-glukózaminidáza)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TUBULÁRNÍ postižení LED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2. GM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167" name="Velikonoce%202000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 - stanove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1)  „ KINETICKÉ“ test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fotometrické sledování časové změny absorbance (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t.j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rychlost reakce</a:t>
            </a:r>
            <a:r>
              <a:rPr b="0" lang="cs-CZ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často se používá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optický test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(NADH + H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rincip%20optický%20test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6068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zymy - stanoven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1)  „ KINETICKÉ“ testy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   fotometrické sledování časové změny absorbance (A) </a:t>
            </a:r>
            <a:r>
              <a:rPr b="0" lang="cs-CZ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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často se používá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optický test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(NADH + H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 Narrow"/>
              </a:rPr>
              <a:t>+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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 Narrow"/>
              </a:rPr>
              <a:t>faktory ovlivňující enzymovou reakci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: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EPLOTA, pH, koncentrace SUBSTRÁTU, koE,...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často se volí kompromis mezi optimálními  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podmínkami, cenou, technickými požadavky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cs-CZ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343400"/>
            <a:ext cx="838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6061d"/>
                </a:solidFill>
                <a:latin typeface="Arial Narrow"/>
              </a:rPr>
              <a:t>DOPORUČENÉ metody ( IFCC, standardizovanéČR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952880"/>
            <a:ext cx="91440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KATALYTICKÁ KONCENTRACE ENZYMU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„aktivita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kat/l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 dříve, ale ještě např. v Německu,USA 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U/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1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kat/l = 60 U/l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eroset%20přístroj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6140520"/>
          </a:xfrm>
          <a:prstGeom prst="rect">
            <a:avLst/>
          </a:prstGeom>
          <a:ln w="0">
            <a:noFill/>
          </a:ln>
        </p:spPr>
      </p:pic>
      <p:pic>
        <p:nvPicPr>
          <p:cNvPr id="60" name="Abbott%20logo%20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8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4a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lexRate%20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629400"/>
          </a:xfrm>
          <a:prstGeom prst="rect">
            <a:avLst/>
          </a:prstGeom>
          <a:ln w="0">
            <a:noFill/>
          </a:ln>
        </p:spPr>
      </p:pic>
      <p:pic>
        <p:nvPicPr>
          <p:cNvPr id="63" name="FlexRate%20legend" descr=""/>
          <p:cNvPicPr/>
          <p:nvPr/>
        </p:nvPicPr>
        <p:blipFill>
          <a:blip r:embed="rId2"/>
          <a:stretch/>
        </p:blipFill>
        <p:spPr>
          <a:xfrm>
            <a:off x="304920" y="2886120"/>
            <a:ext cx="1447560" cy="39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9:24:37Z</dcterms:created>
  <dc:creator>RNDr. Petr Breinek</dc:creator>
  <dc:description/>
  <dc:language>en-US</dc:language>
  <cp:lastModifiedBy>RNDr. Petr Breinek</cp:lastModifiedBy>
  <dcterms:modified xsi:type="dcterms:W3CDTF">2000-04-18T18:04:41Z</dcterms:modified>
  <cp:revision>113</cp:revision>
  <dc:subject/>
  <dc:title>Bez nadpisu</dc:title>
</cp:coreProperties>
</file>