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DDC-0923-4173-B1C4-3EAA94BE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F46-9C6E-4F25-A156-46A4CC95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DCBB-1B61-47BF-A027-F4746B27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CD7-7A34-45AD-96DF-569984A8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5639-0235-43F0-B4EC-00E71561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DF63-26EA-42A6-B6C6-F7EE95F6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24EA-191A-42A5-93D4-82F59218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232D-9DC2-4916-ABD6-C550FD1F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F3C5-399F-4989-9322-2E7C3307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F52C-DD38-499A-A8D2-2C157D27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DBB5-E224-4989-BAFF-0EFBEF79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E06-5B79-4E1D-B74B-00C2AE1B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CBB0-C6E8-4519-8C85-93C976E4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AECF-E7FA-4CE7-9BC6-E62EB5B3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638A-61A0-42FE-B908-81C7376A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2D27-1445-45D1-A84B-7FDA2D77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80A0-B2A2-4916-9C19-FAAE7CEF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3BB-4C35-4023-9F9C-866896DD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BB8-40BE-47C1-864E-F855CED3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FE34-FCCD-4D30-831E-67535E3B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2646-A722-4B32-BDB0-5E1C82C8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27C-96D5-44AD-9850-AAFA6C3D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97F-3388-4541-8ED4-A1517E11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783-8890-4A9B-80CD-D2D2C4B0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CC37-96A2-46A2-88B5-8046DF950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9A56-BF3E-4A1F-8AA5-0A8491C3EA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Srdce a atheroskleros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nergetický  metabolismus –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soce aerobní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35% objemu svalu zaujímají mitochondr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ní zdroj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– volné mastné kyseliny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ýznamný  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– glukosa, laktá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malém množství – pyruvát, ketonové látky, aminokysel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Základní charakteristika markerů akutního infarktu myokard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7" name="AMI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990720" y="1778040"/>
            <a:ext cx="72388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Atheroskleros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úžení až uzávěr cé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má jedinou příčinu (&gt; 200), více spolupůsobících faktorů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bnormální“ lipidy, hypertenze, nikotin, DM, hypercholesterolemie,genatické dispozice, faktory srážení krve, homocystein,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60948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therogen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rombogen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114800" y="837720"/>
            <a:ext cx="6858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1219320"/>
            <a:ext cx="685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Cévní endote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líčové postavení v ochraně cévní stěny před aterosklerotickými změnam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ntrola perme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ntrola optimálního průt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jištění nesmáčivosti povrchu (zabránění adheze a agregace trombocytů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ktivace koagu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ntrola fibrinolýzy, angiogene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usobeni_endotelu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33520" y="1828800"/>
            <a:ext cx="8219880" cy="42973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Působení endotel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vsechno" descr=""/>
          <p:cNvPicPr/>
          <p:nvPr/>
        </p:nvPicPr>
        <p:blipFill>
          <a:blip r:embed="rId2"/>
          <a:stretch/>
        </p:blipFill>
        <p:spPr>
          <a:xfrm>
            <a:off x="1676520" y="380880"/>
            <a:ext cx="6324480" cy="6226200"/>
          </a:xfrm>
          <a:prstGeom prst="rect">
            <a:avLst/>
          </a:prstGeom>
          <a:ln w="0">
            <a:noFill/>
          </a:ln>
        </p:spPr>
      </p:pic>
      <p:pic>
        <p:nvPicPr>
          <p:cNvPr id="118" name="vasodilatace" descr=""/>
          <p:cNvPicPr/>
          <p:nvPr/>
        </p:nvPicPr>
        <p:blipFill>
          <a:blip r:embed="rId3"/>
          <a:stretch/>
        </p:blipFill>
        <p:spPr>
          <a:xfrm>
            <a:off x="1219320" y="239760"/>
            <a:ext cx="685800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odifikace LD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ímá oxidace apoproteinu B a P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7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azba aldehydu na aminoskupinu Lys (glc, malondialdehyd) – glykace usnadňuje oxidaci LDL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oxidace glykovaných bílkovin vede k tvorbě AGEs (advanced glycation end-produc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7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ícemodifikované LDL nejsou rozpoznávány LDL receptory (pohlcovány makrofágy  a ukládány v podobě kapének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pěnové buň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343400" cy="3265560"/>
          </a:xfrm>
          <a:prstGeom prst="rect">
            <a:avLst/>
          </a:prstGeom>
          <a:ln w="0">
            <a:noFill/>
          </a:ln>
        </p:spPr>
      </p:pic>
      <p:pic>
        <p:nvPicPr>
          <p:cNvPr id="122" name="2" descr=""/>
          <p:cNvPicPr/>
          <p:nvPr/>
        </p:nvPicPr>
        <p:blipFill>
          <a:blip r:embed="rId3"/>
          <a:stretch/>
        </p:blipFill>
        <p:spPr>
          <a:xfrm>
            <a:off x="304920" y="3616200"/>
            <a:ext cx="4343400" cy="3241800"/>
          </a:xfrm>
          <a:prstGeom prst="rect">
            <a:avLst/>
          </a:prstGeom>
          <a:ln w="0">
            <a:noFill/>
          </a:ln>
        </p:spPr>
      </p:pic>
      <p:pic>
        <p:nvPicPr>
          <p:cNvPr id="123" name="3" descr=""/>
          <p:cNvPicPr/>
          <p:nvPr/>
        </p:nvPicPr>
        <p:blipFill>
          <a:blip r:embed="rId4"/>
          <a:stretch/>
        </p:blipFill>
        <p:spPr>
          <a:xfrm>
            <a:off x="4800600" y="228600"/>
            <a:ext cx="4343400" cy="3328920"/>
          </a:xfrm>
          <a:prstGeom prst="rect">
            <a:avLst/>
          </a:prstGeom>
          <a:ln w="0">
            <a:noFill/>
          </a:ln>
        </p:spPr>
      </p:pic>
      <p:pic>
        <p:nvPicPr>
          <p:cNvPr id="124" name="tr2" descr=""/>
          <p:cNvPicPr/>
          <p:nvPr/>
        </p:nvPicPr>
        <p:blipFill>
          <a:blip r:embed="rId5"/>
          <a:stretch/>
        </p:blipFill>
        <p:spPr>
          <a:xfrm>
            <a:off x="4876920" y="3809880"/>
            <a:ext cx="42670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atolog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schemická choroba srdeč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99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ardiomyop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99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rdeční arytm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99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genitální a vulvární onemocnění srd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Ischemická choroba srdečn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dostatečné zásobování srdce krví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hypoxie,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odvod toxických metaboli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ff"/>
                </a:solidFill>
                <a:latin typeface="Tahoma"/>
              </a:rPr>
              <a:t>Příči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jčastěji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koronární ateroskler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ronární vasospas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áněty koronární artérie, tromb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Některé anémie a hypot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vorba AT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ffff"/>
                </a:solidFill>
                <a:uFillTx/>
                <a:latin typeface="Tahoma"/>
              </a:rPr>
              <a:t>Substrátová fosforylace</a:t>
            </a:r>
            <a:r>
              <a:rPr b="0" lang="cs-CZ" sz="3200" spc="-1" strike="noStrike">
                <a:solidFill>
                  <a:srgbClr val="ff3300"/>
                </a:solidFill>
                <a:latin typeface="Tahoma"/>
              </a:rPr>
              <a:t> </a:t>
            </a:r>
            <a:br>
              <a:rPr sz="3200"/>
            </a:b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Fosfoenolpyruvát, 1,3-difosfoglycerá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ffff"/>
                </a:solidFill>
                <a:uFillTx/>
                <a:latin typeface="Tahoma"/>
              </a:rPr>
              <a:t>Oxidační fosfory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ffff"/>
                </a:solidFill>
                <a:uFillTx/>
                <a:latin typeface="Tahoma"/>
              </a:rPr>
              <a:t>Adenylátkinasa</a:t>
            </a:r>
            <a:r>
              <a:rPr b="0" lang="cs-CZ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myokinasa)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AMP + ATP </a:t>
            </a: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2 AD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ffff"/>
                </a:solidFill>
                <a:uFillTx/>
                <a:latin typeface="Tahoma"/>
              </a:rPr>
              <a:t>Regenerace z kreatinfosfá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reatin + ATP </a:t>
            </a: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kreatin-P + ADP   </a:t>
            </a:r>
            <a:r>
              <a:rPr b="0" lang="cs-CZ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cs-CZ" sz="2000" spc="-1" strike="noStrike" baseline="30000">
                <a:solidFill>
                  <a:srgbClr val="ffffff"/>
                </a:solidFill>
                <a:latin typeface="Tahoma"/>
              </a:rPr>
              <a:t>°´=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12.6 kJ/m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Průběh ischem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erobní metabolismus – pouze několik sekund </a:t>
            </a: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vyčerpaní O</a:t>
            </a:r>
            <a:r>
              <a:rPr b="0" lang="cs-C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– zástava oxidační fosforyl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erobní metabolismus </a:t>
            </a: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hromadění laktá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užití zásob kreatin-P (vyčerpán za 5 mi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kles ATP </a:t>
            </a: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zástava svalových kontrak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 20 min oklusi –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60% ATP vyčerpá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2 násobná koncentrace laktá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čerpán zásobní glyk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výšená permeabilita buněčných membrán,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poškození ultrastruktur buň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Průběh ischem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echod reversibilní a ireversibilní ischemie je dán bodem, kdy srdeční buňky nejsou schopny udržet integritu membrán </a:t>
            </a: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infarkt myokar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volnění intracelulárního obsahu </a:t>
            </a: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nožství uvolněných enzymů je dáno rychlostí a rozsahem reperfuse poškozeného myokardu  a velikostí (+ lokalizací) enzy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800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ahoma"/>
              </a:rPr>
              <a:t>DIAGNOST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ochemická diagnost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Biochemické testy - enzymy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676520"/>
            <a:ext cx="8077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3300"/>
                </a:solidFill>
                <a:uFillTx/>
                <a:latin typeface="Tahoma"/>
              </a:rPr>
              <a:t>Kreatinkinas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CK, CK-MB, CK-MB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ahoma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58% MM, 42% MB)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K-MB/CK&gt;0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124080"/>
            <a:ext cx="8610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3300"/>
                </a:solidFill>
                <a:uFillTx/>
                <a:latin typeface="Tahoma"/>
              </a:rPr>
              <a:t>Aspartátaminotransferas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K/AST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&lt; 10 (I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&gt; 10 (poškozeníkosterní svalstvo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5029200"/>
            <a:ext cx="8915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3300"/>
                </a:solidFill>
                <a:uFillTx/>
                <a:latin typeface="Tahoma"/>
              </a:rPr>
              <a:t>Laktátdehydrogenas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LD, LD1/LD2, H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BD/LD&gt; 0.8, LD1/LD2 &gt; 1, poškození myokar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BD/LD&lt; 0.6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kosterní svalst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6765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ahoma"/>
              </a:rPr>
              <a:t>Myoglobin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43828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ahoma"/>
              </a:rPr>
              <a:t>Troponin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nT, T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nT (5% volně v SR, 95% vázáno na kontraktilní bílkoviny) </a:t>
            </a: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2 maxima </a:t>
            </a: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možnost pozdní diagnostiky 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nI – specifičtější, nemá druhé maxi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325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Tahoma"/>
              </a:rPr>
              <a:t>Atriový natriuretický peptid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N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rker funkce pravé ko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Biochemické testy - neenzymové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Základní charakteristika markerů akutního infarktu myokard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280" y="1828800"/>
          <a:ext cx="8763120" cy="4781520"/>
        </p:xfrm>
        <a:graphic>
          <a:graphicData uri="http://schemas.openxmlformats.org/drawingml/2006/table">
            <a:tbl>
              <a:tblPr/>
              <a:tblGrid>
                <a:gridCol w="1628640"/>
                <a:gridCol w="1473480"/>
                <a:gridCol w="1395360"/>
                <a:gridCol w="1396800"/>
                <a:gridCol w="1420920"/>
                <a:gridCol w="14479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D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yoglob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opon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6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5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 000 (I) 42 000 (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růst nad horní limit ref. rozmezí</a:t>
                      </a:r>
                      <a:r>
                        <a:rPr b="0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-4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-5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-4x (1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čátek (h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-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-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-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ximum (h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-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-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-72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72-14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-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-48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2-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vrat k normálu (dn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-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-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-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-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1T16:59:32Z</dcterms:created>
  <dc:creator>Michaela Wimmerová</dc:creator>
  <dc:description/>
  <dc:language>en-US</dc:language>
  <cp:lastModifiedBy>MichaW</cp:lastModifiedBy>
  <dcterms:modified xsi:type="dcterms:W3CDTF">2001-04-02T09:19:28Z</dcterms:modified>
  <cp:revision>5</cp:revision>
  <dc:subject/>
  <dc:title>Srdce a aterosklerosa</dc:title>
</cp:coreProperties>
</file>