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66C-4CDE-42DE-85CF-EF16ED45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B9F-8296-4EB8-BFDC-6D7C0AE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2FA-854A-4ECB-9A2C-4C3BB667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DD2-6D33-4D2C-AA65-8BD8331C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E349-9CB6-49A5-ADA3-C24710D7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0FE2-9852-4A4E-8A2B-281EBA9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5ACA-2DBD-4ED5-9D74-D5B8C651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0BB5-4B29-4FF8-A0F6-83000D35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BC01-0637-4A15-9FFB-A03FADB7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C531-11B1-4519-AA02-451C497C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4CB3-02D5-48E8-8E0F-67CAEA4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BC3-E676-4B29-AEB3-3EA92A4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E609-E453-49F4-AC4B-52CB73AB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0403-F615-49DD-ABDB-A0EB58E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0CF-A353-4459-BEB8-8216ACE2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771A-6225-48DD-972D-3A0516AF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9EC-9158-419C-BD76-BB478A3D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BCB-A344-49E6-82C9-7B1A3F0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C05-5705-45AA-B288-0B586889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58C-690F-4538-9ABA-ED20C75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23C-D4C6-4B5A-9E1C-AAADE32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5C3-08E6-4B2F-9473-1DFA319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571-5DEF-42E4-889D-F808DD1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476-D8D4-4AD1-B623-B44A6B1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9D8-64DE-4C40-B495-0F1C6D80B2E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D18-3A37-4FEA-A594-6525197A757B}" type="slidenum"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Biochemie kost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ůrná fun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držování homeostasy minerá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ídlo krvetvorného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Vitamin D3 - cholekalcifer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činná forma 1,25-dihydroxy-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olekalciferol (kalcitri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ff"/>
                </a:solidFill>
                <a:latin typeface="Tahoma"/>
              </a:rPr>
              <a:t>Úči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uje resorpci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uje resorpci Ca ve stře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010280" y="5257800"/>
            <a:ext cx="1904760" cy="1218960"/>
            <a:chOff x="7010280" y="5257800"/>
            <a:chExt cx="1904760" cy="1218960"/>
          </a:xfrm>
        </p:grpSpPr>
        <p:sp>
          <p:nvSpPr>
            <p:cNvPr id="136" name=""/>
            <p:cNvSpPr/>
            <p:nvPr/>
          </p:nvSpPr>
          <p:spPr>
            <a:xfrm>
              <a:off x="7314840" y="5410080"/>
              <a:ext cx="381240" cy="838080"/>
            </a:xfrm>
            <a:prstGeom prst="upArrow">
              <a:avLst>
                <a:gd name="adj1" fmla="val 50000"/>
                <a:gd name="adj2" fmla="val 54958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90760" y="5638680"/>
              <a:ext cx="9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ffff"/>
                  </a:solidFill>
                  <a:latin typeface="Arial"/>
                </a:rPr>
                <a:t>Ca</a:t>
              </a:r>
              <a:r>
                <a:rPr b="1" lang="cs-CZ" sz="3200" spc="-1" strike="noStrike" baseline="30000">
                  <a:solidFill>
                    <a:srgbClr val="ccffff"/>
                  </a:solidFill>
                  <a:latin typeface="Arial"/>
                </a:rPr>
                <a:t>2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257800"/>
              <a:ext cx="1904760" cy="12189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638680"/>
            <a:ext cx="4267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1,25-dihydroxycholekalciferol </a:t>
            </a:r>
            <a:r>
              <a:rPr b="1" lang="cs-CZ" sz="2400" spc="-1" strike="noStrike">
                <a:solidFill>
                  <a:srgbClr val="ccffff"/>
                </a:solidFill>
                <a:latin typeface="Arial"/>
              </a:rPr>
              <a:t>(kalcitri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30 pg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24,25-dihydroxycholekalciferol „</a:t>
            </a:r>
            <a:r>
              <a:rPr b="0" i="1" lang="cs-CZ" sz="2400" spc="-1" strike="noStrike">
                <a:solidFill>
                  <a:srgbClr val="ccffff"/>
                </a:solidFill>
                <a:latin typeface="Arial"/>
              </a:rPr>
              <a:t>odpad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Aktivace vit. D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2438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Cholekalciferol (vit. D3)</a:t>
            </a:r>
            <a:br>
              <a:rPr sz="2400"/>
            </a:br>
            <a:r>
              <a:rPr b="0" i="1" lang="cs-CZ" sz="2400" spc="-1" strike="noStrike">
                <a:solidFill>
                  <a:srgbClr val="ccffff"/>
                </a:solidFill>
                <a:latin typeface="Arial"/>
              </a:rPr>
              <a:t>neaktiv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76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7-dehydrocholeste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2362320"/>
            <a:ext cx="914400" cy="380880"/>
          </a:xfrm>
          <a:prstGeom prst="line">
            <a:avLst/>
          </a:prstGeom>
          <a:ln w="284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324480" y="2133720"/>
            <a:ext cx="1067040" cy="533160"/>
          </a:xfrm>
          <a:prstGeom prst="line">
            <a:avLst/>
          </a:prstGeom>
          <a:ln w="284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0000"/>
                </a:solidFill>
                <a:latin typeface="Arial"/>
              </a:rPr>
              <a:t>str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U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276720"/>
            <a:ext cx="0" cy="761760"/>
          </a:xfrm>
          <a:prstGeom prst="line">
            <a:avLst/>
          </a:prstGeom>
          <a:ln w="284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114800"/>
            <a:ext cx="510516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25-hydroxycholekalciferol (kalcidi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30 mg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429000" y="6172200"/>
            <a:ext cx="838080" cy="0"/>
          </a:xfrm>
          <a:prstGeom prst="line">
            <a:avLst/>
          </a:prstGeom>
          <a:ln w="284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6172200"/>
            <a:ext cx="1066680" cy="0"/>
          </a:xfrm>
          <a:prstGeom prst="line">
            <a:avLst/>
          </a:prstGeom>
          <a:ln w="28440">
            <a:solidFill>
              <a:srgbClr val="cc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343400" y="4876920"/>
            <a:ext cx="0" cy="1295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já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5029200"/>
            <a:ext cx="1295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Arial"/>
              </a:rPr>
              <a:t>ledvi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943240" y="5181480"/>
            <a:ext cx="609480" cy="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Kalcitonin (33 aa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retován C buňkami štítné žlá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ff"/>
                </a:solidFill>
                <a:latin typeface="Tahoma"/>
              </a:rPr>
              <a:t>Úči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hibuje resorpci kosti (přímé působení na osteoklas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hibuje zpětnou resorpci Ca v ledvi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lumí bolest (působení na C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010280" y="5257800"/>
            <a:ext cx="1905120" cy="1219320"/>
            <a:chOff x="7010280" y="5257800"/>
            <a:chExt cx="1905120" cy="1219320"/>
          </a:xfrm>
        </p:grpSpPr>
        <p:sp>
          <p:nvSpPr>
            <p:cNvPr id="160" name=""/>
            <p:cNvSpPr/>
            <p:nvPr/>
          </p:nvSpPr>
          <p:spPr>
            <a:xfrm flipV="1">
              <a:off x="7315200" y="5409360"/>
              <a:ext cx="380880" cy="838440"/>
            </a:xfrm>
            <a:prstGeom prst="upArrow">
              <a:avLst>
                <a:gd name="adj1" fmla="val 50000"/>
                <a:gd name="adj2" fmla="val 55033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91120" y="5638680"/>
              <a:ext cx="9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ffff"/>
                  </a:solidFill>
                  <a:latin typeface="Arial"/>
                </a:rPr>
                <a:t>Ca</a:t>
              </a:r>
              <a:r>
                <a:rPr b="1" lang="cs-CZ" sz="3200" spc="-1" strike="noStrike" baseline="30000">
                  <a:solidFill>
                    <a:srgbClr val="ccffff"/>
                  </a:solidFill>
                  <a:latin typeface="Arial"/>
                </a:rPr>
                <a:t>2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5257800"/>
              <a:ext cx="1905120" cy="121932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oruchy metabolismu 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ypokalcemi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méně běžné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ypoparathyroid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t. D defic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dvinové poškoz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yperkalcem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imární hyperparathyroid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dorová onemocně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Fosfor (0.8 – 1.4 mmol/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mbrány, nukleové kyseliny, kofaktory, glykolytické intermediá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osforylace – regulace enzy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ofosfáty –zdroj E (ATP, kreatin-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343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419720"/>
            <a:ext cx="73152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Důležitý anion ICF i E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ázaný na lipidy a prote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organický HPO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/H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Fosfor (0.8 – 1.4 mmol/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inou protichůdně k Ca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regulace PTH v ledviná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343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fosfor2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7018560" cy="2666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6520" y="4952880"/>
            <a:ext cx="9903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676520" y="510552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105520"/>
            <a:ext cx="12952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105520"/>
            <a:ext cx="609480" cy="38088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384" y="0"/>
                </a:moveTo>
                <a:cubicBezTo>
                  <a:pt x="344" y="120"/>
                  <a:pt x="304" y="240"/>
                  <a:pt x="240" y="240"/>
                </a:cubicBezTo>
                <a:cubicBezTo>
                  <a:pt x="176" y="240"/>
                  <a:pt x="56" y="2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Hořčík (0.1 – 1.0 mmol/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ivátor mnoha enzy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TP existuje jako komplex s Mg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ansmembránový transport K,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azba podjednotek ribosom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ce sva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vosvalový přenos vzruch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vlivňuje sekreci P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343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Hořčík (0.1 – 1.0 mmol/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lavní kation IC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lasmě – 60% ionizováno, 15% komplexy a soli (P, citrát, HCO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), zbytek prote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343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magnesium2" descr=""/>
          <p:cNvPicPr/>
          <p:nvPr/>
        </p:nvPicPr>
        <p:blipFill>
          <a:blip r:embed="rId2"/>
          <a:stretch/>
        </p:blipFill>
        <p:spPr>
          <a:xfrm>
            <a:off x="1143000" y="3809880"/>
            <a:ext cx="7122960" cy="2695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057400" y="5105520"/>
            <a:ext cx="10666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181480"/>
            <a:ext cx="11430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Regulace kostní hmoty - souhr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alcitoni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uprese osteoklast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T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ace osteoklastů,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hibice syntéz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agenu v osteoblast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it. D3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/-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zbytný pro mineralizaci,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šší koncentrace působí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eolytic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ápník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vážně v dětství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spívání a ve stář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luorid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imulují osteoblas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Regulace kostní hmoty - souhr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ěk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30 let kostní hmoty ubýv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yzická aktivit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yšuje kostní husto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ůstový hormo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imulace tvorby k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hyroidni hormon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imuluje resorpci kosti, která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sledně stimuluje tvorbu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stní hmo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Glukokortikoid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mo inhibují syntézu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ů osteoblastů, nepřím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hibují resorpci Ca ve střev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strog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vlivňují absorpci Ca v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řevě, nepřímo inhibují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eoklas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Anatomie kosti</a:t>
            </a: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osteo2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287172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809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osteo3" descr=""/>
          <p:cNvPicPr/>
          <p:nvPr/>
        </p:nvPicPr>
        <p:blipFill>
          <a:blip r:embed="rId3"/>
          <a:stretch/>
        </p:blipFill>
        <p:spPr>
          <a:xfrm>
            <a:off x="3886200" y="1905120"/>
            <a:ext cx="3637080" cy="4495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238880" y="1143000"/>
            <a:ext cx="1243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032"/>
              <a:gd name="adj5" fmla="val 233592"/>
              <a:gd name="adj6" fmla="val -55939"/>
            </a:avLst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Times New Roman"/>
              </a:rPr>
              <a:t>okos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04920"/>
            <a:ext cx="175248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18842"/>
              <a:gd name="adj5" fmla="val 348865"/>
              <a:gd name="adj6" fmla="val -3315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Times New Roman"/>
              </a:rPr>
              <a:t>Haversovy kaná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686040"/>
            <a:ext cx="1523880" cy="1343160"/>
          </a:xfrm>
          <a:prstGeom prst="borderCallout2">
            <a:avLst>
              <a:gd name="adj1" fmla="val 18750"/>
              <a:gd name="adj2" fmla="val -8333"/>
              <a:gd name="adj3" fmla="val 8509"/>
              <a:gd name="adj4" fmla="val -58333"/>
              <a:gd name="adj5" fmla="val 44680"/>
              <a:gd name="adj6" fmla="val -1137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Times New Roman"/>
              </a:rPr>
              <a:t>lamely oddělené lakun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3760" y="407196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213370"/>
              <a:gd name="adj5" fmla="val 18750"/>
              <a:gd name="adj6" fmla="val 322398"/>
            </a:avLst>
          </a:prstGeom>
          <a:noFill/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Biochemické marke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tavby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kalická fosfat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kalc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kolage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sorpce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ydroxyprol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yridinol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Zesíťování pyridinolinu a deoxypyridinolinu v kolagen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3" name="zesit_kolagen" descr=""/>
          <p:cNvPicPr/>
          <p:nvPr/>
        </p:nvPicPr>
        <p:blipFill>
          <a:blip r:embed="rId2"/>
          <a:stretch/>
        </p:blipFill>
        <p:spPr>
          <a:xfrm>
            <a:off x="1981080" y="1967040"/>
            <a:ext cx="5359680" cy="4890960"/>
          </a:xfrm>
          <a:prstGeom prst="rect">
            <a:avLst/>
          </a:prstGeom>
          <a:ln w="0">
            <a:noFill/>
          </a:ln>
        </p:spPr>
      </p:pic>
      <p:pic>
        <p:nvPicPr>
          <p:cNvPr id="194" name="zesit_kolagen2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88390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Onemocnění kos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malacie a kři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škození mineralizace kostí u dospělých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řivice - poškození kosti a mineralizace chrupavek u dět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dostatečnost vit. 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strointestinální poruch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biochemi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ětšinou snížený 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TH zvýšen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alcitriol snížený pokud souvisí s vit. D deficien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osteomalacie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24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Onemocnění kos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porosa  (řídnutí kost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ížení kostní hmo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/4 žen a 1/20 mužů nad 60 l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ekundární osteoporosa může být zapříčině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ěkterými léčivy (hl. dlouhodobé užívání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rtikosteroidů n. heparin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uřením, - alkoholem, - hyperthyroidism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gastrointestinálními porucha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shingův synd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osteo_pred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2667240" cy="2354400"/>
          </a:xfrm>
          <a:prstGeom prst="rect">
            <a:avLst/>
          </a:prstGeom>
          <a:ln w="0">
            <a:noFill/>
          </a:ln>
        </p:spPr>
      </p:pic>
      <p:pic>
        <p:nvPicPr>
          <p:cNvPr id="201" name="osteo_po" descr=""/>
          <p:cNvPicPr/>
          <p:nvPr/>
        </p:nvPicPr>
        <p:blipFill>
          <a:blip r:embed="rId3"/>
          <a:stretch/>
        </p:blipFill>
        <p:spPr>
          <a:xfrm>
            <a:off x="4572000" y="2666880"/>
            <a:ext cx="25909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atofyziologie osteoporosy typu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stro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teokl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steobl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a v plas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ihydroxycholekalcife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bsorpce Ca ve stře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895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2971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tráta kostní hmo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47242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3341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94360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894760" y="27432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04560" y="3962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2971080" y="3428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Negativní bilance C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Onemocnění kostí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getova choroba - běžn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zvýšená osteoklastická aktivita, která vede ke zvýšené kostní resorpci. Zvýšená aktivita osteoblastů produkuje novou tkáň, ale ta je  disorganizačním způsobem opět odbourávána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linickým projevem bývá bolest kos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iochemi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aktivita AL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výšená exkrece Pro-OH v moč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Kostní buňk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kla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corel000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98" name="corel" descr=""/>
          <p:cNvPicPr/>
          <p:nvPr/>
        </p:nvPicPr>
        <p:blipFill>
          <a:blip r:embed="rId3"/>
          <a:stretch/>
        </p:blipFill>
        <p:spPr>
          <a:xfrm>
            <a:off x="762120" y="4191120"/>
            <a:ext cx="2819160" cy="223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590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cy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90512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bla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kost" descr=""/>
          <p:cNvPicPr/>
          <p:nvPr/>
        </p:nvPicPr>
        <p:blipFill>
          <a:blip r:embed="rId4"/>
          <a:stretch/>
        </p:blipFill>
        <p:spPr>
          <a:xfrm>
            <a:off x="4114800" y="533520"/>
            <a:ext cx="4437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Detail Howshipovy lakun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kost5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7391520" cy="295272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/>
          <p:nvPr/>
        </p:nvCxnSpPr>
        <p:spPr>
          <a:xfrm flipV="1">
            <a:off x="5562720" y="2133000"/>
            <a:ext cx="762480" cy="1181880"/>
          </a:xfrm>
          <a:prstGeom prst="straightConnector1">
            <a:avLst/>
          </a:prstGeom>
          <a:ln w="28440">
            <a:solidFill>
              <a:srgbClr val="ccffff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387840" y="1716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osteoblas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5520" y="60199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osteoklas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1980720" y="4952880"/>
            <a:ext cx="1080" cy="991440"/>
          </a:xfrm>
          <a:prstGeom prst="straightConnector1">
            <a:avLst/>
          </a:prstGeom>
          <a:ln w="28440">
            <a:solidFill>
              <a:srgbClr val="ccffff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5943240" y="5029200"/>
            <a:ext cx="1080" cy="991440"/>
          </a:xfrm>
          <a:prstGeom prst="straightConnector1">
            <a:avLst/>
          </a:prstGeom>
          <a:ln w="28440">
            <a:solidFill>
              <a:srgbClr val="cc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5182560" y="609588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ffff"/>
                </a:solidFill>
                <a:latin typeface="Arial"/>
              </a:rPr>
              <a:t>Kostní matrix (osteo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44400" y="373392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aversův kanál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(Howshipova laku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Remodelace kosti </a:t>
            </a:r>
            <a:r>
              <a:rPr b="0" lang="cs-CZ" sz="2400" spc="-1" strike="noStrike">
                <a:solidFill>
                  <a:srgbClr val="ccffff"/>
                </a:solidFill>
                <a:latin typeface="Tahoma"/>
              </a:rPr>
              <a:t>(8-12 týdnů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867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Složení kost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uze část je tvořena buňk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ládá kalcifikovaná tkáň (90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id (organická matrix) (1/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lagen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steokalcin, osteonektin, osteoponti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erální prvky (2/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rystaly Ca a P (amorfní nebo hydroxyapatit Ca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PO4)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OH)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Mg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Cu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Zn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F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, HCO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cs-CZ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Metabolismus Ca (2.2-2.6 mmol/l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vapnik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629320" cy="4152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43400" y="2895480"/>
            <a:ext cx="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95680" y="2895480"/>
            <a:ext cx="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38862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05160" y="403848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43200" y="41148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Ca</a:t>
            </a:r>
            <a:r>
              <a:rPr b="0" lang="cs-CZ" sz="4400" spc="-1" strike="noStrike" baseline="30000">
                <a:solidFill>
                  <a:srgbClr val="ccffff"/>
                </a:solidFill>
                <a:latin typeface="Tahoma"/>
              </a:rPr>
              <a:t>2+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ázaný na peptid 1.25 mmol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oln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ionizovaný“ (komlexy, soli)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0.1 mmol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Ionizovaný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“ (metabolicky aktivní)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15 mmol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ffff"/>
                </a:solidFill>
                <a:latin typeface="Tahoma"/>
              </a:rPr>
              <a:t>Výz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vové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ermeabilita membr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valová kontra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ffff"/>
                </a:solidFill>
                <a:latin typeface="Tahoma"/>
              </a:rPr>
              <a:t>Regu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4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alciton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arathyroidní hor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t. D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23432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Parathyroidní hormon</a:t>
            </a:r>
            <a:br>
              <a:rPr sz="4400"/>
            </a:b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(PTH, </a:t>
            </a:r>
            <a:r>
              <a:rPr b="0" i="1" lang="cs-CZ" sz="4400" spc="-1" strike="noStrike">
                <a:solidFill>
                  <a:srgbClr val="ccffff"/>
                </a:solidFill>
                <a:latin typeface="Tahoma"/>
              </a:rPr>
              <a:t>parathyrin</a:t>
            </a:r>
            <a:r>
              <a:rPr b="0" lang="cs-CZ" sz="4400" spc="-1" strike="noStrike">
                <a:solidFill>
                  <a:srgbClr val="ccffff"/>
                </a:solidFill>
                <a:latin typeface="Tahoma"/>
              </a:rPr>
              <a:t>), 84 a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retován na základě koncentrace volného nevázaného Ca v plasmě příštitnými tělís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ff"/>
                </a:solidFill>
                <a:latin typeface="Tahoma"/>
              </a:rPr>
              <a:t>Úči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imuluje resorpci k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vyšuje resorpci Ca v ledvi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ímo zvyšuje resorpce Ca ve střevě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(aktivací vit. D3 v ledvinác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010280" y="3733920"/>
            <a:ext cx="1904760" cy="1218960"/>
            <a:chOff x="7010280" y="3733920"/>
            <a:chExt cx="1904760" cy="1218960"/>
          </a:xfrm>
        </p:grpSpPr>
        <p:sp>
          <p:nvSpPr>
            <p:cNvPr id="130" name=""/>
            <p:cNvSpPr/>
            <p:nvPr/>
          </p:nvSpPr>
          <p:spPr>
            <a:xfrm>
              <a:off x="7314840" y="3886200"/>
              <a:ext cx="381240" cy="838080"/>
            </a:xfrm>
            <a:prstGeom prst="upArrow">
              <a:avLst>
                <a:gd name="adj1" fmla="val 50000"/>
                <a:gd name="adj2" fmla="val 54958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90760" y="4114800"/>
              <a:ext cx="9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ccffff"/>
                  </a:solidFill>
                  <a:latin typeface="Arial"/>
                </a:rPr>
                <a:t>Ca</a:t>
              </a:r>
              <a:r>
                <a:rPr b="1" lang="cs-CZ" sz="3200" spc="-1" strike="noStrike" baseline="30000">
                  <a:solidFill>
                    <a:srgbClr val="ccffff"/>
                  </a:solidFill>
                  <a:latin typeface="Arial"/>
                </a:rPr>
                <a:t>2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3733920"/>
              <a:ext cx="1904760" cy="12189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W</cp:lastModifiedBy>
  <dcterms:modified xsi:type="dcterms:W3CDTF">2001-04-04T13:39:06Z</dcterms:modified>
  <cp:revision>53</cp:revision>
  <dc:subject/>
  <dc:title>Biochemie kosti</dc:title>
</cp:coreProperties>
</file>